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2355-903A-4564-B1DC-E884CEEC92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BCD7-240D-4997-8953-1AA3ACCF65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15DD-D189-4E25-962B-132E35B80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90AB-9C4D-45E7-9953-5055688D7D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0D3E-7688-4948-8840-CD7A4E349E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7F7F-62CF-46B5-A2B6-62224EDC69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B02D-4C53-445A-BC2E-C7F1212BA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C9E2-380D-4F9B-9495-6ACB125281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A68E-3836-4F16-9BA4-DA7575F1BA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A2C8-AD7E-413D-B55F-5CD27CC2F5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932E-7ADA-4296-B99E-F630680AF6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DFB4-1AB0-4021-AE7C-D0DE16404C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F31D-55F1-438A-B1A5-3EC326454B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E647-4CF2-4F2B-B5A5-FC6A8327D0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A969-B7E8-431D-8CEE-A4EB4E4B7B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1C62-C0DB-4260-BE39-686C274986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549B-F7F8-4AE1-A5F8-1FC2B9016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F2E4-0F56-4DA5-BC26-C7A5025A99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3AF0-9A5B-43AE-9335-30A624D474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2DBD-4D5A-4577-9635-C549815646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8CC6-3B4E-4356-8080-85AFF770D8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FB4C-4FDE-42F5-87D6-2DC9833EF6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589F-D507-4602-8D21-0C7DBA4278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A30D-7233-4364-8E88-86A3243924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4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1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2" marL="343080" indent="-343080">
              <a:buClr>
                <a:srgbClr val="004d55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3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4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5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6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068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8305920"/>
            <a:ext cx="13004640" cy="1447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2420720" y="8699400"/>
            <a:ext cx="0" cy="83844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6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6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1131-0318-4EE2-B308-AA5345641378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0" y="8319960"/>
            <a:ext cx="13004640" cy="144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8" name="Line 5"/>
          <p:cNvSpPr/>
          <p:nvPr/>
        </p:nvSpPr>
        <p:spPr>
          <a:xfrm>
            <a:off x="12420720" y="8699400"/>
            <a:ext cx="0" cy="83844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9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6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7024-7C51-44FD-B224-7DD67A9460D6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10985400" y="8153280"/>
            <a:ext cx="1778040" cy="1346400"/>
          </a:xfrm>
          <a:prstGeom prst="rect">
            <a:avLst/>
          </a:prstGeom>
          <a:ln w="0">
            <a:noFill/>
          </a:ln>
        </p:spPr>
      </p:pic>
      <p:sp>
        <p:nvSpPr>
          <p:cNvPr id="129" name="Title 1"/>
          <p:cNvSpPr/>
          <p:nvPr/>
        </p:nvSpPr>
        <p:spPr>
          <a:xfrm>
            <a:off x="974880" y="4038480"/>
            <a:ext cx="110552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 (Headings)"/>
                <a:ea typeface="Gill Sans (Headings)"/>
              </a:rPr>
              <a:t>Questions?</a:t>
            </a:r>
            <a:endParaRPr b="0" lang="en-US" sz="84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RIPE Slide Master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594B-0EA8-4744-B8D7-962D09AF1D28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catte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F94-1167-407A-A496-085F30152C31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Mixed 1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90400" y="1657440"/>
          <a:ext cx="122112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22112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80D3-B787-49BC-9ADB-8EF045F42670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Mixed 2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90400" y="1657440"/>
          <a:ext cx="1203336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203336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8025-9A2B-4B5E-91D1-B1A0A0A7EBED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Other Stuff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627840" y="2105280"/>
            <a:ext cx="4129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  <a:ea typeface="Helvetica Neue Light"/>
              </a:rPr>
              <a:t>Default Text Box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3632040" y="3619440"/>
            <a:ext cx="1270080" cy="1270080"/>
          </a:xfrm>
          <a:prstGeom prst="ellipse">
            <a:avLst/>
          </a:prstGeom>
          <a:noFill/>
          <a:ln w="25560">
            <a:solidFill>
              <a:srgbClr val="006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5346720" y="3619440"/>
            <a:ext cx="1270080" cy="1270080"/>
          </a:xfrm>
          <a:prstGeom prst="line">
            <a:avLst/>
          </a:prstGeom>
          <a:ln w="38160">
            <a:solidFill>
              <a:srgbClr val="006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6781680" y="3606840"/>
            <a:ext cx="1270080" cy="1270080"/>
          </a:xfrm>
          <a:prstGeom prst="line">
            <a:avLst/>
          </a:prstGeom>
          <a:ln w="38160">
            <a:solidFill>
              <a:srgbClr val="00626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8508960" y="3606840"/>
            <a:ext cx="1270080" cy="1270080"/>
          </a:xfrm>
          <a:prstGeom prst="wedgeEllipseCallout">
            <a:avLst>
              <a:gd name="adj1" fmla="val -70000"/>
              <a:gd name="adj2" fmla="val 50000"/>
            </a:avLst>
          </a:prstGeom>
          <a:noFill/>
          <a:ln w="25560">
            <a:solidFill>
              <a:srgbClr val="006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842760" y="3934080"/>
            <a:ext cx="1805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  <a:ea typeface="Helvetica Neue Light"/>
              </a:rPr>
              <a:t>Shapes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708360" y="5473800"/>
          <a:ext cx="5575320" cy="2908080"/>
        </p:xfrm>
        <a:graphic>
          <a:graphicData uri="http://schemas.openxmlformats.org/drawingml/2006/table">
            <a:tbl>
              <a:tblPr/>
              <a:tblGrid>
                <a:gridCol w="1393920"/>
                <a:gridCol w="1393920"/>
                <a:gridCol w="1393560"/>
                <a:gridCol w="1393920"/>
              </a:tblGrid>
              <a:tr h="726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</a:tr>
              <a:tr h="727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solidFill>
                      <a:srgbClr val="00626b">
                        <a:alpha val="49000"/>
                      </a:srgbClr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4d55"/>
                        </a:solidFill>
                        <a:latin typeface="Helvetica Neue Light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626b"/>
                      </a:solidFill>
                    </a:lnL>
                    <a:lnR w="12240">
                      <a:solidFill>
                        <a:srgbClr val="00626b"/>
                      </a:solidFill>
                    </a:lnR>
                    <a:lnT w="12240">
                      <a:solidFill>
                        <a:srgbClr val="00626b"/>
                      </a:solidFill>
                    </a:lnT>
                    <a:lnB w="12240">
                      <a:solidFill>
                        <a:srgbClr val="0062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65"/>
          <p:cNvSpPr/>
          <p:nvPr/>
        </p:nvSpPr>
        <p:spPr>
          <a:xfrm>
            <a:off x="829800" y="6245640"/>
            <a:ext cx="136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  <a:ea typeface="Helvetica Neue Light"/>
              </a:rPr>
              <a:t>Table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1A4B-2557-4130-8373-B7259F939AEF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0400" y="1657440"/>
          <a:ext cx="116208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6208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DB54-E4E9-49D2-8B6E-CB30D38E6C0C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tacked 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90400" y="1657440"/>
          <a:ext cx="116208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6208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6F10-FBDF-420D-93D8-E758C39BD8E7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Horizontal 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90400" y="1657440"/>
          <a:ext cx="1186200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200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9891-DC13-4332-8D45-C1652AFDB56C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tacked Horizontal Bar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90400" y="1657440"/>
          <a:ext cx="1186200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200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011-7814-471B-8238-A19F30301DAA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Line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6DBA-ED13-457A-A455-EA419E69A769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Area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5565-6F8A-4E70-9A5A-ED99AC0311CD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tacked Area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0400" y="1657440"/>
          <a:ext cx="11868480" cy="67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57440"/>
                    <a:ext cx="1186848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D9E-A108-4AAE-9F72-2696404655BE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Pie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31840" y="1316160"/>
          <a:ext cx="8940960" cy="74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316160"/>
                    <a:ext cx="8940960" cy="74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y Grant</cp:lastModifiedBy>
  <dcterms:modified xsi:type="dcterms:W3CDTF">2011-04-18T12:55:38Z</dcterms:modified>
  <cp:revision>1</cp:revision>
  <dc:subject/>
  <dc:title>RIPE Slide Master</dc:title>
</cp:coreProperties>
</file>