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C34C-00E3-4653-BA7B-54513DD1DA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DA07-6036-4A85-B4C1-09F63A3142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5528-9239-43C2-B459-B5D33B1A0A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9CBC-0022-4AB5-8D3B-9BBBEACCF5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95D2-0F78-4A01-B56A-0C6E3CD96F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A70B-D2E1-4A89-BAFB-31F02F160F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9967-1444-45CC-9D2A-DCEB73976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19CA-B257-4051-978A-CD5E85C873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F7D7-563D-44D6-9992-0FC9F29181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A48E-4928-4857-BE5E-189616D3D2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0F5E-D735-4DA1-ACA5-3DBCE51BC0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0C5E-1C2F-4216-A7A9-023C57537A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B639-C304-470D-8FF9-4478511F79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893C-B24D-4629-BB88-06B676E1DD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73AC-4865-4175-A93E-7ABEEEFE19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1794-B1DB-4786-9C75-DAFBC65EFC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8488-0AE4-4B96-81E9-790EF8B233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498F-872E-4A30-B658-E92EB9D057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287C-36F5-47C2-AFCC-ECE1E81049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41E0-5D24-4F83-A2DD-5753F85E2D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A432-6AD7-4B3D-8A5A-5EAC24294E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8F40-3FD8-4142-AC6A-A7A2364F40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8498-487E-44EB-8583-1DE454E219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0E8F-876A-4B4C-ACEF-64CE954A05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4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1" marL="343080" indent="-343080">
              <a:buClr>
                <a:srgbClr val="004d55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2" marL="343080" indent="-343080">
              <a:buClr>
                <a:srgbClr val="004d55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3" marL="343080" indent="-343080">
              <a:buClr>
                <a:srgbClr val="004d55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4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5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6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9680" y="9398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068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8305920"/>
            <a:ext cx="13004640" cy="1447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39680" y="9398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5" name="Line 5"/>
          <p:cNvSpPr/>
          <p:nvPr/>
        </p:nvSpPr>
        <p:spPr>
          <a:xfrm>
            <a:off x="12420720" y="8699400"/>
            <a:ext cx="0" cy="83844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6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6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AC37-6D9F-460C-8E64-1CADE7204B51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0" y="8319960"/>
            <a:ext cx="13004640" cy="144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39680" y="9398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88" name="Line 5"/>
          <p:cNvSpPr/>
          <p:nvPr/>
        </p:nvSpPr>
        <p:spPr>
          <a:xfrm>
            <a:off x="12420720" y="8699400"/>
            <a:ext cx="0" cy="83844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89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6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7F47-DF61-4DFA-8966-B1B0F7501B11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10985400" y="8153280"/>
            <a:ext cx="1778040" cy="1346400"/>
          </a:xfrm>
          <a:prstGeom prst="rect">
            <a:avLst/>
          </a:prstGeom>
          <a:ln w="0">
            <a:noFill/>
          </a:ln>
        </p:spPr>
      </p:pic>
      <p:sp>
        <p:nvSpPr>
          <p:cNvPr id="129" name="Title 1"/>
          <p:cNvSpPr/>
          <p:nvPr/>
        </p:nvSpPr>
        <p:spPr>
          <a:xfrm>
            <a:off x="974880" y="4038480"/>
            <a:ext cx="1105524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 (Headings)"/>
                <a:ea typeface="Gill Sans (Headings)"/>
              </a:rPr>
              <a:t>Questions?</a:t>
            </a:r>
            <a:endParaRPr b="0" lang="en-US" sz="84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4d55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4d55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RIPE Slide Master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2202-3901-4E41-9D40-1F31D3F53428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Scatter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90400" y="1657440"/>
          <a:ext cx="1186848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848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FC8D-7707-4A42-B3FB-1C9B57A1B316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Mixed 1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90400" y="1657440"/>
          <a:ext cx="122112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22112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D389-2ADE-494E-AF5E-39D5D722A74A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Mixed 2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90400" y="1657440"/>
          <a:ext cx="1203336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203336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CF98-06C4-4C1E-A3F9-9B2947EC1C1F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Other Stuff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627840" y="2105280"/>
            <a:ext cx="4129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  <a:ea typeface="Helvetica Neue Light"/>
              </a:rPr>
              <a:t>Default Text Box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3632040" y="3619440"/>
            <a:ext cx="1270080" cy="1270080"/>
          </a:xfrm>
          <a:prstGeom prst="ellipse">
            <a:avLst/>
          </a:prstGeom>
          <a:noFill/>
          <a:ln w="25560">
            <a:solidFill>
              <a:srgbClr val="006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5346720" y="3619440"/>
            <a:ext cx="1270080" cy="1270080"/>
          </a:xfrm>
          <a:prstGeom prst="line">
            <a:avLst/>
          </a:prstGeom>
          <a:ln w="38160">
            <a:solidFill>
              <a:srgbClr val="006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6781680" y="3606840"/>
            <a:ext cx="1270080" cy="1270080"/>
          </a:xfrm>
          <a:prstGeom prst="line">
            <a:avLst/>
          </a:prstGeom>
          <a:ln w="38160">
            <a:solidFill>
              <a:srgbClr val="00626b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8508960" y="3606840"/>
            <a:ext cx="1270080" cy="1270080"/>
          </a:xfrm>
          <a:prstGeom prst="wedgeEllipseCallout">
            <a:avLst>
              <a:gd name="adj1" fmla="val -70000"/>
              <a:gd name="adj2" fmla="val 50000"/>
            </a:avLst>
          </a:prstGeom>
          <a:noFill/>
          <a:ln w="25560">
            <a:solidFill>
              <a:srgbClr val="006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842760" y="3934080"/>
            <a:ext cx="180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  <a:ea typeface="Helvetica Neue Light"/>
              </a:rPr>
              <a:t>Shapes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708360" y="5473800"/>
          <a:ext cx="5575320" cy="2908080"/>
        </p:xfrm>
        <a:graphic>
          <a:graphicData uri="http://schemas.openxmlformats.org/drawingml/2006/table">
            <a:tbl>
              <a:tblPr/>
              <a:tblGrid>
                <a:gridCol w="1393920"/>
                <a:gridCol w="1393920"/>
                <a:gridCol w="1393560"/>
                <a:gridCol w="1393920"/>
              </a:tblGrid>
              <a:tr h="726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</a:tr>
              <a:tr h="727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65"/>
          <p:cNvSpPr/>
          <p:nvPr/>
        </p:nvSpPr>
        <p:spPr>
          <a:xfrm>
            <a:off x="829800" y="6245640"/>
            <a:ext cx="136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  <a:ea typeface="Helvetica Neue Light"/>
              </a:rPr>
              <a:t>Table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9D64-0FA7-4697-85AE-A0C9FC41C6B8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1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Bar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0400" y="1657440"/>
          <a:ext cx="116208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6208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243B-B475-429A-9CE0-DB4F5561252B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Stacked Bar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90400" y="1657440"/>
          <a:ext cx="116208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6208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F135-B0C4-4015-9D92-83E7A59D08B2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Horizontal Bar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90400" y="1657440"/>
          <a:ext cx="1186200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200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5E7E-EA04-49A8-A642-85FD03055260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Stacked Horizontal Bar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90400" y="1657440"/>
          <a:ext cx="1186200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200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74F7-DAF6-4DEF-A4B4-ABAC8259D4D7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Line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90400" y="1657440"/>
          <a:ext cx="1186848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848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E99D-0EA5-43B7-A9F4-CB4B3FEC34A5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Area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90400" y="1657440"/>
          <a:ext cx="1186848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848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5133-57C7-42D2-AB4D-8304039D3752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Stacked Area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0400" y="1657440"/>
          <a:ext cx="1186848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848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8EDC-A070-40A4-890C-6329F63B4715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Pie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031840" y="1316160"/>
          <a:ext cx="8940960" cy="74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316160"/>
                    <a:ext cx="8940960" cy="74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y Grant</cp:lastModifiedBy>
  <dcterms:modified xsi:type="dcterms:W3CDTF">2011-04-18T12:55:38Z</dcterms:modified>
  <cp:revision>1</cp:revision>
  <dc:subject/>
  <dc:title>RIPE Slide Master</dc:title>
</cp:coreProperties>
</file>