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EA03-D424-4836-9BEB-652CE6AD05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61F2-BB0B-4560-8D71-64FCD0ED4D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461E-B58D-4C5E-A126-6831D45112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EBA3-4903-459C-84B9-6675ADF977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1904-8C1F-49A3-BDC3-375173855F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BD06-FD98-4389-A57B-0079603021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F20C-92F2-4490-865E-AEF092AA19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5F83-79EF-47FC-BC48-149A15DF3F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81D7-EBEB-483C-863D-2978086F70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6C64-E6CF-40BB-B66E-D0969C490D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C45E-FC3E-49C9-A654-840A35FA54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09BF-6644-45F0-8FBE-8425FF2888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3258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25800" indent="-32580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25800" indent="-32580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25800" indent="-32580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25800" indent="-32580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25800" indent="-32580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25800" indent="-32580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Denis Walker, RIPE 67 October 2013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4285-55FF-4852-93CC-36A30E588196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3548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4480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45340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453400" indent="-52560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453400" indent="-52560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abuse-c update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Denis Walker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Business Analys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RIPE NCC Database Team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Where are we now?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Number or LIRs ~ 9000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buse-c contacts added ~ 4000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till to be added ~ 5000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3897-BC91-460E-955F-B7E7139878A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Networks covered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4 allocations ~ 57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6 allocations ~ 58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4 PI assignments ~ 6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6 assignment ~ 14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4 allocated address space ~ 62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4 assigned PI address space ~ 12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9B4-C573-408E-840F-415B20AB0144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mplified UI for adding abuse-c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o be deployed shortly after RIPE 67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Log into LIR Porta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Enter email addres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ON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software will do everything el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092B-A681-4902-88D3-04CA7BECE796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Deadline for LIR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t was agreed all LIRs should have abuse-c by end of Q3 – now!!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e have listened to your commen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new UI should help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pose extending deadline to end November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fter that date all remaining LIRs will have it set up for them by defaul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5BBF-7C59-4EBA-8823-F7CB0365A32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PI space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pose delaying start of this phase until end of November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vide new simplified UI for PI holde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Enter org id, mntner password, email addres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DON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software will do everything el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175E-B8F4-464C-AE38-0D834CAC792F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eferences to abuse-c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urrently only from organisation objec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ome users find duplicating org a proble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llowing references from multiple locations is also a proble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NCC acknowledges this is a proble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pose to take an in depth look at option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me back to WG with suggestions for improveme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5EF3-9ACA-4646-A886-8437864FF26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enis</cp:lastModifiedBy>
  <dcterms:modified xsi:type="dcterms:W3CDTF">2013-10-16T22:09:03Z</dcterms:modified>
  <cp:revision>11</cp:revision>
  <dc:subject/>
  <dc:title>Slide 1</dc:title>
</cp:coreProperties>
</file>