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93A0-61C7-4503-A7B1-D93EF0FE04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E0E5-3E24-4E1E-BB8C-5F87E62F85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6D6A-81E1-4C97-9CB7-18591A7F4F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A2EA-8369-48E3-93AA-8532ACE9F5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D7437-7EF7-49B4-9BF1-2235189F5D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6561-4F65-4F0E-A86C-25442EB72E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3A803-4AAD-4306-AA09-7FD5E4A2A6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00468-601A-4E5B-9683-86AD402E59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525E-263D-4879-9FAB-49723B4CC8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1873-4993-4402-B7C1-F24130AC8D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7EA0-EDA3-410D-8F05-C6E6987181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0D9F-ADD0-4F1F-9D7F-6CB595750B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Line 2"/>
          <p:cNvSpPr/>
          <p:nvPr/>
        </p:nvSpPr>
        <p:spPr>
          <a:xfrm>
            <a:off x="6019920" y="5460840"/>
            <a:ext cx="7010280" cy="0"/>
          </a:xfrm>
          <a:prstGeom prst="line">
            <a:avLst/>
          </a:prstGeom>
          <a:ln w="12600">
            <a:solidFill>
              <a:srgbClr val="005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3258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1" marL="325800" indent="-32580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2" marL="325800" indent="-325800">
              <a:buClr>
                <a:srgbClr val="00589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3" marL="325800" indent="-32580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4" marL="325800" indent="-32580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5" marL="325800" indent="-32580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6" marL="325800" indent="-32580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3" marL="1917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4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5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6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23960" y="925848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t">
            <a:noAutofit/>
          </a:bodyPr>
          <a:p>
            <a:pPr marL="69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895"/>
                </a:solidFill>
                <a:latin typeface="Helvetica Neue"/>
                <a:ea typeface="Helvetica Neue"/>
              </a:rPr>
              <a:t>Denis Walker, RIPE 67 October 2013</a:t>
            </a:r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0553760" y="8807400"/>
            <a:ext cx="1841400" cy="806400"/>
          </a:xfrm>
          <a:prstGeom prst="rect">
            <a:avLst/>
          </a:prstGeom>
          <a:ln w="0">
            <a:noFill/>
          </a:ln>
        </p:spPr>
      </p:pic>
      <p:sp>
        <p:nvSpPr>
          <p:cNvPr id="44" name="Line 5"/>
          <p:cNvSpPr/>
          <p:nvPr/>
        </p:nvSpPr>
        <p:spPr>
          <a:xfrm>
            <a:off x="12398400" y="8877240"/>
            <a:ext cx="3240" cy="604800"/>
          </a:xfrm>
          <a:prstGeom prst="line">
            <a:avLst/>
          </a:prstGeom>
          <a:ln w="1260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5" name="Line 6"/>
          <p:cNvSpPr/>
          <p:nvPr/>
        </p:nvSpPr>
        <p:spPr>
          <a:xfrm>
            <a:off x="736560" y="1244520"/>
            <a:ext cx="12268080" cy="0"/>
          </a:xfrm>
          <a:prstGeom prst="line">
            <a:avLst/>
          </a:prstGeom>
          <a:ln w="2556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8275-0463-4ECC-81DD-6BA90F983C9F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6381720" y="1128600"/>
            <a:ext cx="5321160" cy="7480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rcRect l="80667" t="87505" r="292" b="522"/>
          <a:stretch/>
        </p:blipFill>
        <p:spPr>
          <a:xfrm>
            <a:off x="10490040" y="8534520"/>
            <a:ext cx="2476800" cy="1168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817560" indent="-525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35480" indent="-525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44800" indent="-525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453400" indent="-525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453400" indent="-52560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453400" indent="-52560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abuse-c update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Denis Walker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Business Analyst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RIPE NCC Database Team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Where are we now?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Number or LIRs ~ 9000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abuse-c contacts added ~ 4000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till to be added ~ 5000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DF58-5D63-464C-A17C-C911CE2AEF6E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Networks covered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Pv4 allocations ~ 57%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Pv6 allocations ~ 58%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Pv4 PI assignments ~ 6%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Pv6 assignment ~ 14%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Pv4 allocated address space ~ 62%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Pv4 assigned PI address space ~ 12%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FE7D-1965-4DDB-AD57-EBC9A55CB6CA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Simplified UI for adding abuse-c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o be deployed shortly after RIPE 67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Log into LIR Porta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Enter email addres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DON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e software will do everything els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AC8F-1B88-4C99-95C7-2A9BAE185FB6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Deadline for LIR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69360" indent="-3693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t was agreed all LIRs should have abuse-c by end of Q3 – now!!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69360" indent="-3693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We have listened to your comment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69360" indent="-3693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e new UI should help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69360" indent="-3693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Propose extending deadline to end November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69360" indent="-3693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After that date all remaining LIRs will have it set up for them by defaul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5E3C-45BF-44B5-9F37-8DD8031D3C5D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PI space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Propose delaying start of this phase until end of November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Provide new simplified UI for PI holder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Enter org id, mntner password, email addres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DON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e software will do everything els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F40F-D641-4B2E-938C-33D20B1F3A9B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References to abuse-c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327240" indent="-3272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urrently only from organisation objec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27240" indent="-3272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ome users find duplicating org a problem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27240" indent="-3272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Allowing references from multiple locations is also a problem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27240" indent="-3272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RIPE NCC acknowledges this is a problem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27240" indent="-3272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Propose to take an in depth look at option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27240" indent="-3272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ome back to WG with suggestions for improvemen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0D6A-1FF3-4184-81BC-46DB8F07F2FE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812880" y="4140360"/>
            <a:ext cx="57909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ctr">
            <a:noAutofit/>
          </a:bodyPr>
          <a:p>
            <a:pPr marL="6984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5895"/>
                </a:solidFill>
                <a:latin typeface="Helvetica Neue Light"/>
                <a:ea typeface="Helvetica Neue Light"/>
              </a:rPr>
              <a:t>Questions?</a:t>
            </a:r>
            <a:endParaRPr b="0" lang="en-US" sz="72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Denis</cp:lastModifiedBy>
  <dcterms:modified xsi:type="dcterms:W3CDTF">2013-10-16T22:09:03Z</dcterms:modified>
  <cp:revision>11</cp:revision>
  <dc:subject/>
  <dc:title>Slide 1</dc:title>
</cp:coreProperties>
</file>