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A2CB-05AD-45D0-8A66-5AE3186AA9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6726-7F21-43A2-BF8F-57F2918C2A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16FA-70A4-4587-9E29-017BCD368D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3E62-EEB2-448D-BF27-2F53526797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8924-9F71-41B7-9C46-DC52B1148B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6965-EF2C-4876-8106-7C16E3F46B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9E2C-047E-405A-BD34-A769E3295D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7F05-7E61-45FB-8148-D77E67A1EA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173D-6292-4ADF-80CC-32933EBD9E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718D-E9BA-4D0C-88D4-504033B874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2CBF-675E-482A-8A26-F1B865065D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4623-55C6-46D4-9B2F-0D6500256E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5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1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2" marL="343080" indent="-343080">
              <a:buClr>
                <a:srgbClr val="00589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3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4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5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6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23960" y="92584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895"/>
                </a:solidFill>
                <a:latin typeface="Helvetica Neue"/>
                <a:ea typeface="Helvetica Neue"/>
              </a:rPr>
              <a:t>Denis Walker, 2013-10-17</a:t>
            </a:r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553760" y="8807400"/>
            <a:ext cx="1841400" cy="8064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2398400" y="8877240"/>
            <a:ext cx="3240" cy="60480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A00B-6D22-4E06-BD31-B86A856DBC64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80667" t="87505" r="292" b="522"/>
          <a:stretch/>
        </p:blipFill>
        <p:spPr>
          <a:xfrm>
            <a:off x="10490040" y="8534520"/>
            <a:ext cx="2476800" cy="116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snijders-rpsl-via-02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aut-num objec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Denis Walker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Business Analys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RIPE NCC Database Team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F682-5B1D-496C-910C-E6D902DDB87F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1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via” attribut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raft RFC from Job Snijde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1"/>
              </a:rPr>
              <a:t>http://tools.ietf.org/html/draft-snijders-rpsl-via-02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wo new optional attribut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"import-via:" and "export-via:"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Used in RPSL policy specifications to publish desired routing policy regarding non-adjacent networks.”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pen source software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Job modified the RIPE Database softwar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rovided a patch to the RIPE NCC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eady to implement this change in a test environmen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FECE-6FA6-49DD-A0DA-32A4E313E099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hange to aut-num - ALERT!!!!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e aut-num object is important to routing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s feature adds 2 new optional attribut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FC2622 says tools should transparently handle unknown attribut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ill this break your tools?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9E4B-DCA5-469F-9F07-1C4AB7C241C1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ommunication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e syntax of the aut-num object does not change ofte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hen it does, how should we contact all those who really need to know this?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5646-37C0-47F4-A1D5-C2E9BB4897B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5894"/>
                </a:solidFill>
                <a:latin typeface="Helvetica Neue Light"/>
              </a:rPr>
              <a:t>Pending route authorisation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Simplify the complex authorisation for route creatio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One user submits route object with some auth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Second user submits same object with missing auth token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When both objects received, RIPE Database software creates object if combined auth tokens all pas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Available on TEST soon after RIPE 67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9996-91A4-42C8-ABB5-3F00AA152BD3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aut-num managemen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Very big objec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omposed of many peering detail se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Updated often, small chang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ometimes auto generated by scrip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an we manage it better?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ith new software, management of data can be de-coupled from presentation of information…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Manage as simple data sets, present as RPSL?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C997-C13C-424C-867A-36BA8AA8B628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812880" y="4140360"/>
            <a:ext cx="5790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ctr">
            <a:noAutofit/>
          </a:bodyPr>
          <a:p>
            <a:pPr marL="6984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895"/>
                </a:solidFill>
                <a:latin typeface="Helvetica Neue Light"/>
                <a:ea typeface="Helvetica Neue Light"/>
              </a:rPr>
              <a:t>Questions?</a:t>
            </a:r>
            <a:endParaRPr b="0" lang="en-US" sz="7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ohan Åhlén</cp:lastModifiedBy>
  <dcterms:modified xsi:type="dcterms:W3CDTF">2013-10-17T10:24:53Z</dcterms:modified>
  <cp:revision>14</cp:revision>
  <dc:subject/>
  <dc:title>Slide 1</dc:title>
</cp:coreProperties>
</file>