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ABFA6-05BB-44A3-8F36-8FF187D9BCD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73393-B8B4-4678-A8ED-C386DBA5129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924E6-4557-403D-ADBB-1D383D066DC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98728-3B16-4A49-950E-EBC51B09235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0A903-BE1D-4FC0-B044-5BB5CB96F7E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D3289-109B-4AA7-B22F-1403334F20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8000B-9836-4981-B5BF-7D49AC20BB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1B61D-10B9-4FBF-A6B9-DE73AC71B32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4C2AF-93D9-4948-9D96-F4DFEDFA69E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5F850-C3DB-4BAF-9F3D-F57AFD83F88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57A41-EABE-4578-874E-57E5F80BA9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687FE-AC76-49D0-93AF-7E356B341D5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1" name="Line 2"/>
          <p:cNvSpPr/>
          <p:nvPr/>
        </p:nvSpPr>
        <p:spPr>
          <a:xfrm>
            <a:off x="6019920" y="5460840"/>
            <a:ext cx="7010280" cy="0"/>
          </a:xfrm>
          <a:prstGeom prst="line">
            <a:avLst/>
          </a:prstGeom>
          <a:ln w="12600">
            <a:solidFill>
              <a:srgbClr val="005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994360" y="5613480"/>
            <a:ext cx="6680160" cy="276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  <a:p>
            <a:pPr lvl="1" marL="343080" indent="-343080">
              <a:buClr>
                <a:srgbClr val="005894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  <a:p>
            <a:pPr lvl="2" marL="343080" indent="-343080">
              <a:buClr>
                <a:srgbClr val="005894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  <a:p>
            <a:pPr lvl="3" marL="343080" indent="-343080">
              <a:buClr>
                <a:srgbClr val="005894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  <a:p>
            <a:pPr lvl="4" marL="343080" indent="-343080">
              <a:buClr>
                <a:srgbClr val="005894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  <a:p>
            <a:pPr lvl="5" marL="343080" indent="-343080">
              <a:buClr>
                <a:srgbClr val="005894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  <a:p>
            <a:pPr lvl="6" marL="343080" indent="-343080">
              <a:buClr>
                <a:srgbClr val="005894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5994360" y="2552760"/>
            <a:ext cx="6680160" cy="276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5894"/>
                </a:solidFill>
                <a:latin typeface="Helvetica Neue Light"/>
              </a:rPr>
              <a:t>Click to edit the title text format</a:t>
            </a:r>
            <a:endParaRPr b="0" lang="en-US" sz="60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Click to edit the title text format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Click to edit the outline text format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Second Outline Level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2" marL="1346040" indent="-25380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Third Outline Level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3" marL="1917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Fourth Outline Level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4" marL="2489040" indent="-25380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Fifth Outline Level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5" marL="2489040" indent="-25380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Sixth Outline Level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6" marL="2489040" indent="-25380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Seventh Outline Level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723960" y="9258480"/>
            <a:ext cx="914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70920" tIns="0" bIns="0" anchor="t">
            <a:noAutofit/>
          </a:bodyPr>
          <a:p>
            <a:pPr marL="69840">
              <a:lnSpc>
                <a:spcPct val="10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895"/>
                </a:solidFill>
                <a:latin typeface="Helvetica Neue"/>
                <a:ea typeface="Helvetica Neue"/>
              </a:rPr>
              <a:t>Denis Walker, 2013-10-17</a:t>
            </a:r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10553760" y="8807400"/>
            <a:ext cx="1841400" cy="806400"/>
          </a:xfrm>
          <a:prstGeom prst="rect">
            <a:avLst/>
          </a:prstGeom>
          <a:ln w="0">
            <a:noFill/>
          </a:ln>
        </p:spPr>
      </p:pic>
      <p:sp>
        <p:nvSpPr>
          <p:cNvPr id="44" name="Line 5"/>
          <p:cNvSpPr/>
          <p:nvPr/>
        </p:nvSpPr>
        <p:spPr>
          <a:xfrm>
            <a:off x="12398400" y="8877240"/>
            <a:ext cx="3240" cy="604800"/>
          </a:xfrm>
          <a:prstGeom prst="line">
            <a:avLst/>
          </a:prstGeom>
          <a:ln w="12600">
            <a:solidFill>
              <a:srgbClr val="0058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45" name="Line 6"/>
          <p:cNvSpPr/>
          <p:nvPr/>
        </p:nvSpPr>
        <p:spPr>
          <a:xfrm>
            <a:off x="736560" y="1244520"/>
            <a:ext cx="12268080" cy="0"/>
          </a:xfrm>
          <a:prstGeom prst="line">
            <a:avLst/>
          </a:prstGeom>
          <a:ln w="25560">
            <a:solidFill>
              <a:srgbClr val="0058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1"/>
          </p:nvPr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5DBE6-10EF-4B37-95AC-F4B9D09E9302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2"/>
          <a:stretch/>
        </p:blipFill>
        <p:spPr>
          <a:xfrm>
            <a:off x="6381720" y="1128600"/>
            <a:ext cx="5321160" cy="7480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3"/>
          <a:srcRect l="80667" t="87505" r="292" b="522"/>
          <a:stretch/>
        </p:blipFill>
        <p:spPr>
          <a:xfrm>
            <a:off x="10490040" y="8534520"/>
            <a:ext cx="2476800" cy="1168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83520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25316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671120" indent="-5371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2089080" indent="-5371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50668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506680" indent="-536760">
              <a:spcBef>
                <a:spcPts val="1049"/>
              </a:spcBef>
              <a:buClr>
                <a:srgbClr val="005894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506680" indent="-536760">
              <a:spcBef>
                <a:spcPts val="1049"/>
              </a:spcBef>
              <a:buClr>
                <a:srgbClr val="005894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tools.ietf.org/html/draft-snijders-rpsl-via-02" TargetMode="Externa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94360" y="2552760"/>
            <a:ext cx="6680160" cy="276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5894"/>
                </a:solidFill>
                <a:latin typeface="Helvetica Neue Light"/>
              </a:rPr>
              <a:t>aut-num object</a:t>
            </a:r>
            <a:endParaRPr b="0" lang="en-US" sz="6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994360" y="5613480"/>
            <a:ext cx="6680160" cy="276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Denis Walker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Business Analyst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RIPE NCC Database Team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7E09C-EAF7-4F7B-BCD2-076745AD87BC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1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“</a:t>
            </a: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via” attributes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Draft RFC from Job Snijders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Helvetica Neue Light"/>
                <a:hlinkClick r:id="rId1"/>
              </a:rPr>
              <a:t>http://tools.ietf.org/html/draft-snijders-rpsl-via-02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Two new optional attributes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"import-via:" and "export-via:"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“</a:t>
            </a: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Used in RPSL policy specifications to publish desired routing policy regarding non-adjacent networks.”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Open source software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Job modified the RIPE Database software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Provided a patch to the RIPE NCC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Ready to implement this change in a test environment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B49C9-CC08-4FA7-B18C-6D26E73CBAAD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Change to aut-num - ALERT!!!!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The aut-num object is important to routing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This feature adds 2 new optional attributes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RFC2622 says tools should transparently handle unknown attributes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Will this break your tools?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88C94-D116-4D53-8AEF-909C1E312026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Communication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The syntax of the aut-num object does not change often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When it does, how should we contact all those who really need to know this?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AD032-7559-4A32-86DC-F016AB662D0E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5894"/>
                </a:solidFill>
                <a:latin typeface="Helvetica Neue Light"/>
              </a:rPr>
              <a:t>Pending route authorisation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5894"/>
                </a:solidFill>
                <a:latin typeface="Helvetica Neue Light"/>
              </a:rPr>
              <a:t>Simplify the complex authorisation for route creation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5894"/>
                </a:solidFill>
                <a:latin typeface="Helvetica Neue Light"/>
              </a:rPr>
              <a:t>One user submits route object with some auth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5894"/>
                </a:solidFill>
                <a:latin typeface="Helvetica Neue Light"/>
              </a:rPr>
              <a:t>Second user submits same object with missing auth tokens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5894"/>
                </a:solidFill>
                <a:latin typeface="Helvetica Neue Light"/>
              </a:rPr>
              <a:t>When both objects received, RIPE Database software creates object if combined auth tokens all pass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5894"/>
                </a:solidFill>
                <a:latin typeface="Helvetica Neue Light"/>
              </a:rPr>
              <a:t>Available on TEST soon after RIPE 67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9202B-7FB3-4593-8F9F-A5131C67E8DF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aut-num management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marL="357840" indent="-35784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Very big objects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57840" indent="-35784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Composed of many peering detail sets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57840" indent="-35784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Updated often, small changes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57840" indent="-35784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Sometimes auto generated by scripts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57840" indent="-35784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Can we manage it better?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57840" indent="-35784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With new software, management of data can be de-coupled from presentation of information…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57840" indent="-35784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Manage as simple data sets, present as RPSL?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F23A9-CA99-405E-98A3-5EFC58D93AB1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"/>
          <p:cNvSpPr/>
          <p:nvPr/>
        </p:nvSpPr>
        <p:spPr>
          <a:xfrm>
            <a:off x="812880" y="4140360"/>
            <a:ext cx="579096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70920" tIns="0" bIns="0" anchor="ctr">
            <a:noAutofit/>
          </a:bodyPr>
          <a:p>
            <a:pPr marL="6984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5895"/>
                </a:solidFill>
                <a:latin typeface="Helvetica Neue Light"/>
                <a:ea typeface="Helvetica Neue Light"/>
              </a:rPr>
              <a:t>Questions?</a:t>
            </a:r>
            <a:endParaRPr b="0" lang="en-US" sz="72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Johan Åhlén</cp:lastModifiedBy>
  <dcterms:modified xsi:type="dcterms:W3CDTF">2013-10-17T10:24:53Z</dcterms:modified>
  <cp:revision>14</cp:revision>
  <dc:subject/>
  <dc:title>Slide 1</dc:title>
</cp:coreProperties>
</file>