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6B5F-0E68-4313-B1DA-E07F422953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DE24-7D87-4274-BE8E-353DF39DD0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645A-86BC-4DFE-8AEB-144867F21A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7746-1C14-49EA-896E-BA6EEA8F0C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6A2E-DC44-4F65-9B15-2691127504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F143-4EA4-4226-AEA3-1205478DEB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107A-DDD3-4128-B9B0-1BEE7932F8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1661-9F11-473B-A2BB-2782D04B0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AF75-AE0A-48C5-A2EC-62A04FB609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D470-682F-4953-B1B7-A5196F09DE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45E9-3A4C-4F54-AD41-464004FC68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A8DE-C304-4F60-9636-32673D883F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5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1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2" marL="343080" indent="-343080">
              <a:buClr>
                <a:srgbClr val="00589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3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4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5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6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23960" y="92584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895"/>
                </a:solidFill>
                <a:latin typeface="Helvetica Neue"/>
                <a:ea typeface="Helvetica Neue"/>
              </a:rPr>
              <a:t>Johan Åhlén and Denis Walker, RIPE 67 October 2013</a:t>
            </a:r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553760" y="8807400"/>
            <a:ext cx="1841400" cy="8064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2398400" y="8877240"/>
            <a:ext cx="3240" cy="60480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D3B4-38DE-4BCD-A7D5-3DA41C7A68A9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80667" t="87505" r="292" b="522"/>
          <a:stretch/>
        </p:blipFill>
        <p:spPr>
          <a:xfrm>
            <a:off x="10490040" y="8534520"/>
            <a:ext cx="2476800" cy="116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Database Update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Johan Åhlén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Assistant Manager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and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Denis Walker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Business Analys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ince RIPE 66 (4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--valid-syntax” filters out of query output objects that would fail current syntax check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RESTful API integrated into whois code and is production qualit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Standardised and cleaned up representation of IPv6 addresses in RIPE Databas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Query &amp; Update manuals major review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ED04-7FE5-4833-A90C-F073580733F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nresolved Featur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ata dummification proposal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Design goals publish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5894"/>
                </a:solidFill>
                <a:latin typeface="Helvetica Neue Light"/>
              </a:rPr>
              <a:t>https://labs.ripe.net/Members/kranjbar/proposed-improvements-to-dummification-of-personal-data-in-the-ripe-database</a:t>
            </a:r>
            <a:endParaRPr b="0" lang="en-US" sz="2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Some comments but no real objection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mplementation in one of the upcoming major releas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6888-A205-46D5-A758-4E889756FE8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nresolved Features (2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roposal made at last RIPE Meeting to replace static objects (0/0, /8’s, as-blocks,…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nstead we return information from delegated stat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ore accurate data reflecting future transfer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IPE NCC will put forward detailed implementation pla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38E9-0198-47EE-AFCE-AB2025535D1C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nresolved Features (3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lag to request personal data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roposal made last year not to provide personal data by defaul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Some objections to idea of changing default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Not enough input on changing the logic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Blocking query behaviour</a:t>
            </a: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 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urrently blocks all or nothing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ropose to only block personal data objects</a:t>
            </a: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 when limits reach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572C-2A4F-4D05-9F47-6784C5E13149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pcoming Featur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Pending route authorisat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Simplify the complex authorisation for route creatio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One user submits route object with some auth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Second user submits same object with missing auth token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When both objects received, RIPE Database software creates object if combined auth tokens all pas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Available on TEST soon after RIPE 67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B1E7-C805-49A4-A413-0FA6CB77A75E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pcoming Features (2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via” attributes in aut-num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roposed and implemented by Job Snijder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Draft RFC but already supported by other user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ny change to aut-num needs good communicat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vailable in TEST Database after RIPE 67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DD41-589A-43C8-ACD2-3023D90FFD4A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pcoming Features (3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mplified UI for adding abuse-c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Log into LIR Portal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rovide email addres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DON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Extended deadline for member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D1DB-49D5-4D69-9711-2A52791E06A0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pcoming Features (4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ngle Sign On (SSO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mplement SSO authorisation for database updat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New auth method in mntner objec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While logged in, changes to your data where mntner has your SSO ID is pre-authoris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9750-1DD7-44E0-9D5B-A6352DC8FB8A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pcoming Features (5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ocumentation difficult to maintain, read, find what you wan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echnical information wrapped in descriptive tex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Only way to find anything is to search</a:t>
            </a: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 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Style and content need a rethink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Link to software version is missing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B team will work with Comms team to find a better way to present information that is clear and easy to us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9AE5-DB6F-4749-8AA0-B0EB64740BDE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IPE NCC Survey 2013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Valuable feedback from the 3000+ respondents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Overall the RIPE Database scored highly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Some newcomers find RIPE Database difficult to understand and updat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Asked to allow for bulk updates and/or the ability to synchronise from your own servers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C4AF-AC6A-4F4B-9BF9-683A183AAA8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0462-13EC-4431-9A07-6BE8AA3B627A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1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IPE Database statistic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2,500 unit and integration tes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1,500 end-to-end tes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Operational stats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https://www.ripe.net/data-tools/stats/ripe-databas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bout 430 queries per secon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28" name="Picture 1" descr="queries-day-new.png"/>
          <p:cNvPicPr/>
          <p:nvPr/>
        </p:nvPicPr>
        <p:blipFill>
          <a:blip r:embed="rId1"/>
          <a:stretch/>
        </p:blipFill>
        <p:spPr>
          <a:xfrm>
            <a:off x="2757600" y="6100920"/>
            <a:ext cx="765792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ser Experience Improvement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Know the use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How do people try and find out about the RIPE Database?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How can we work more effectively with the community?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Desired outcome: an 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mproved website, better UIs, simplified and intuitive database software.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ABC6-00E1-4A04-8424-FA3D1C0D2563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esiliency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Hot node in Stockholm</a:t>
            </a: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 in case of major incident in Amsterdam area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Always activ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Could improve further with distributed backen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6668-1461-49C6-9C3F-DB1C44CBA132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12880" y="4140360"/>
            <a:ext cx="5790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ctr">
            <a:noAutofit/>
          </a:bodyPr>
          <a:p>
            <a:pPr marL="6984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895"/>
                </a:solidFill>
                <a:latin typeface="Helvetica Neue Light"/>
                <a:ea typeface="Helvetica Neue Light"/>
              </a:rPr>
              <a:t>Questions?</a:t>
            </a:r>
            <a:endParaRPr b="0" lang="en-US" sz="7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elease Managemen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Users need to be aware of chang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esting period before major production releas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Bug and issue details tracked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dditional test set up with real data snapsho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Major release – feature development, test period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Minor release – bug fix only, immediate deplo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mprove communication for any releas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A450-F62C-4CC3-AB9A-B040B631CDC6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pen Source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Open source for many yea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Long term collaboration with APNIC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New code base now on GitHub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https://github.com/RIPE-NCC/whois/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Users are contributing to the cod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f you have an idea, we can help you technicall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un local instanc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7CBD-54E4-432B-B9F2-F70BB69A9CBF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Action Point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[AP66.1] RIPE NCC to return to the community for clarification of [dummification] design goals.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27920" indent="-2386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ore later in presentatio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[AP66.2] RIPE NCC Raise this proposal [AS authentication] on the DB-WG mailing list for discuss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27920" indent="-2386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Clarification on using RIPE Database as Internet Routing Registry published to RIPE Labs and announced WG lis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64F4-E54A-481C-B429-7C727EFAA94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Action Point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[AP66.3] RIPE NCC Raise [SSO] this proposal on the DB-WG mailing list for discuss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Ongoing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ore on this later in the presentation</a:t>
            </a:r>
            <a:br>
              <a:rPr sz="3600"/>
            </a:b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 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[AP66.5] RIPE NCC to check that all systems are UTF8 read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echnically feasible without much difficulty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ore on this later in the sessio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ACED-27A5-44F0-8807-764C90DF50CE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ince RIPE 66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Working implementation of RDAP, the Registration Data Access Protoco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Developed in cooperation with APNIC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Demonstrated at the IETF meeting in Berli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Beta availabl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http://rdap.db.ripe.net/ip/193.0.0.1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Ongoing, expect updat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1C9A-BE31-47D9-B302-8972B39309C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ince RIPE 66 (2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Metadata tags can now be added to objects (eg RIPE-REGISTRY-RESOURCE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Can be shown in queries and filter output on tag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Mirror other 4 RIR DBs operational data based on their delegated sta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All resources with no overlap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--resource finds any resources from set of RIR DBs  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FE1A-B81D-42DD-AC2E-347DCABDFEFC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ince RIPE 66 (3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53880" indent="-353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Include ‘dry-run:’ in an update with single objec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20360" indent="-236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All checks done, no actual update perform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20360" indent="-236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Could be improved to include multiple objects?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53880" indent="-353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3880" indent="-353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 </a:t>
            </a: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Added “--diff-versions” to history quer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3880" indent="-353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3880" indent="-353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By default all notification messages for object changes  show a diff output and full new objec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3880" indent="-353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807C-9177-47C0-A64C-D0D6DAB354BE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ohan Åhlén</cp:lastModifiedBy>
  <dcterms:modified xsi:type="dcterms:W3CDTF">2013-10-17T07:26:44Z</dcterms:modified>
  <cp:revision>85</cp:revision>
  <dc:subject/>
  <dc:title>Slide 1</dc:title>
</cp:coreProperties>
</file>