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E1CE-9142-4F52-97F1-30773DC54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3D40-2201-4030-AE15-6E6F298192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1A6A-829C-40A5-8975-9D4184C3F7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8988-C156-4BEE-B12B-9D9976110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8F5A-6400-46C7-BF6B-5C601E0623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43B3-5864-42A7-B512-7293AEA65B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B115-75D4-43C9-8441-CB752D0452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D660-6AF6-4FEE-BED4-E0314B5324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2788-1179-4BEE-A1E0-2C12C81CDC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CFDF-488E-4EEB-9141-8CA44F1E7F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C893-71A5-473C-BD90-8D3CDEE4AC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014B-6340-492D-A113-9083F091AC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Johan Åhlén and Denis Walker, RIPE 67 October 2013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FD7-315C-445C-BF58-530B2944153F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Database Update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Johan Åhlén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Assistant Manager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and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Denis Walker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Business Analys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nce RIPE 66 (4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--valid-syntax” filters out of query output objects that would fail current syntax check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RESTful API integrated into whois code and is production qualit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Standardised and cleaned up representation of IPv6 addresses in RIPE Databa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Query &amp; Update manuals major review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03D-735C-4B12-A58F-98FB7E6E6F93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nresolved Featur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ata dummification proposal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Design goals publish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5894"/>
                </a:solidFill>
                <a:latin typeface="Helvetica Neue Light"/>
              </a:rPr>
              <a:t>https://labs.ripe.net/Members/kranjbar/proposed-improvements-to-dummification-of-personal-data-in-the-ripe-database</a:t>
            </a:r>
            <a:endParaRPr b="0" lang="en-US" sz="2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Some comments but no real objection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mplementation in one of the upcoming major releas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3C48-156D-444D-8C6F-463D784AEA3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nresolved Features (2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posal made at last RIPE Meeting to replace static objects (0/0, /8’s, as-blocks,…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stead we return information from delegated stat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accurate data reflecting future transf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IPE NCC will put forward detailed implementation pla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19A-CDB3-4E57-8CEA-38C5325C0282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nresolved Features (3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lag to request personal data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posal made last year not to provide personal data by defaul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Some objections to idea of changing default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Not enough input on changing the logic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Blocking query behaviour</a:t>
            </a: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urrently blocks all or nothing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pose to only block personal data objects</a:t>
            </a: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 when limits reach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D9E9-4521-437B-A45D-AD0C6DF091C6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Pending route authorisat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Simplify the complex authorisation for route creat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One user submits route object with some auth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Second user submits same object with missing auth token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When both objects received, RIPE Database software creates object if combined auth tokens all pas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vailable on TEST soon after RIPE 67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57A4-035C-4980-8187-ADA4634683C2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 (2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via” attributes in aut-nu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posed and implemented by Job Snijd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Draft RFC but already supported by other us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ny change to aut-num needs good communicat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vailable in TEST Database after RIPE 67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4016-8491-4E49-A64B-49302F6FDAD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 (3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mplified UI for adding abuse-c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Log into LIR Portal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vide email addres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DON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Extended deadline for memb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5957-90A9-4DFD-B54C-5A68CA1FB09A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 (4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ngle Sign On (SSO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mplement SSO authorisation for database updat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New auth method in mntner objec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hile logged in, changes to your data where mntner has your SSO ID is pre-authoris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BBC0-804C-43B2-816B-053974C95DE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pcoming Features (5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ocumentation difficult to maintain, read, find what you wa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echnical information wrapped in descriptive tex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Only way to find anything is to search</a:t>
            </a: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Style and content need a rethink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Link to software version is missing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B team will work with Comms team to find a better way to present information that is clear and easy to u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4BB1-2779-43D2-BB23-2F974CF8125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IPE NCC Survey 2013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Valuable feedback from the 3000+ respondents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Overall the RIPE Database scored highl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Some newcomers find RIPE Database difficult to understand and updat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Asked to allow for bulk updates and/or the ability to synchronise from your own servers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0857-CC59-4840-9590-3CAC740ED55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CD69-27D0-4E3E-B507-A6F2A8C5680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IPE Database statistic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2,500 unit and integration tes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1,500 end-to-end tes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Operational stats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https://www.ripe.net/data-tools/stats/ripe-databas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bout 430 queries per secon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28" name="Picture 1" descr="queries-day-new.png"/>
          <p:cNvPicPr/>
          <p:nvPr/>
        </p:nvPicPr>
        <p:blipFill>
          <a:blip r:embed="rId1"/>
          <a:stretch/>
        </p:blipFill>
        <p:spPr>
          <a:xfrm>
            <a:off x="2757600" y="6100920"/>
            <a:ext cx="765792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User Experience Improvement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Know the use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How do people try and find out about the RIPE Database?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How can we work more effectively with the community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Desired outcome: an 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mproved website, better UIs, simplified and intuitive database software.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0D7B-7696-474D-95BC-39098C0DBCC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esiliency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Hot node in Stockholm</a:t>
            </a: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 in case of major incident in Amsterdam area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lways activ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Could improve further with distributed backen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7308-42D9-4832-9D1D-2AC6819E5112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elease Managemen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Users need to be aware of chang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esting period before major production relea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Bug and issue details tracked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dditional test set up with real data snapsho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ajor release – feature development, test period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inor release – bug fix only, immediate deplo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mprove communication for any relea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35160" indent="-335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F853-055E-48B7-A6A9-5D8FFBCA5C0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pen Source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Open source for many yea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Long term collaboration with APNIC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New code base now on GitHub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https://github.com/RIPE-NCC/whois/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Users are contributing to the cod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f you have an idea, we can help you technicall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un local instanc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A550-D0D0-419C-99BA-1D5E930A971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ction Point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[AP66.1] RIPE NCC to return to the community for clarification of [dummification] design goals.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27920" indent="-2386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later in presentat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[AP66.2] RIPE NCC Raise this proposal [AS authentication] on the DB-WG mailing list for discuss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27920" indent="-2386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Clarification on using RIPE Database as Internet Routing Registry published to RIPE Labs and announced WG lis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EDBB-FBB3-44A4-AA52-234A10888C13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ction Point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[AP66.3] RIPE NCC Raise [SSO] this proposal on the DB-WG mailing list for discuss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Ongoing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on this later in the presentation</a:t>
            </a:r>
            <a:br>
              <a:rPr sz="3600"/>
            </a:b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[AP66.5] RIPE NCC to check that all systems are UTF8 read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echnically feasible without much difficult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on this later in the sess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3036-9F82-45FF-8553-B7A6C5142A45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nce RIPE 66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Working implementation of RDAP, the Registration Data Access Protoco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Developed in cooperation with APNIC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Demonstrated at the IETF meeting in Berli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Beta availabl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http://rdap.db.ripe.net/ip/193.0.0.1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Ongoing, expect updat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A65E-BAC5-4784-BC09-41E13477B24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nce RIPE 66 (2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Metadata tags can now be added to objects (eg RIPE-REGISTRY-RESOURCE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Can be shown in queries and filter output on tag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Mirror other 4 RIR DBs operational data based on their delegated sta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ll resources with no overlap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--resource finds any resources from set of RIR DBs 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5212-AD09-4F3B-B556-14FD2DEDC39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nce RIPE 66 (3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Include ‘dry-run:’ in an update with single objec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20360" indent="-236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ll checks done, no actual update perform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20360" indent="-236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Could be improved to include multiple objects?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Added “--diff-versions” to history quer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5894"/>
                </a:solidFill>
                <a:latin typeface="Helvetica Neue Light"/>
              </a:rPr>
              <a:t>By default all notification messages for object changes  show a diff output and full new objec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3880" indent="-353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5F47-CC3A-4642-8ECC-F0587130926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ohan Åhlén</cp:lastModifiedBy>
  <dcterms:modified xsi:type="dcterms:W3CDTF">2013-10-17T07:26:44Z</dcterms:modified>
  <cp:revision>85</cp:revision>
  <dc:subject/>
  <dc:title>Slide 1</dc:title>
</cp:coreProperties>
</file>