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88400" cy="102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7086600" cy="10221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1840"/>
              <a:gd name="textAreaBottom" fmla="*/ 10221480 h 10221840"/>
            </a:gdLst>
            <a:ahLst/>
            <a:rect l="textAreaLeft" t="textAreaTop" r="textAreaRight" b="textAreaBottom"/>
            <a:pathLst>
              <a:path w="21600" h="31156">
                <a:moveTo>
                  <a:pt x="4" y="0"/>
                </a:moveTo>
                <a:arcTo wR="4" hR="4" stAng="16200000" swAng="-5400000"/>
                <a:lnTo>
                  <a:pt x="0" y="31152"/>
                </a:lnTo>
                <a:arcTo wR="4" hR="4" stAng="10800000" swAng="-5400000"/>
                <a:lnTo>
                  <a:pt x="21596" y="311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7086600" cy="10221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1840"/>
              <a:gd name="textAreaBottom" fmla="*/ 10221480 h 10221840"/>
            </a:gdLst>
            <a:ahLst/>
            <a:rect l="textAreaLeft" t="textAreaTop" r="textAreaRight" b="textAreaBottom"/>
            <a:pathLst>
              <a:path w="21600" h="31156">
                <a:moveTo>
                  <a:pt x="4" y="0"/>
                </a:moveTo>
                <a:arcTo wR="4" hR="4" stAng="16200000" swAng="-5400000"/>
                <a:lnTo>
                  <a:pt x="0" y="31152"/>
                </a:lnTo>
                <a:arcTo wR="4" hR="4" stAng="10800000" swAng="-5400000"/>
                <a:lnTo>
                  <a:pt x="21596" y="311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7086600" cy="10221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1840"/>
              <a:gd name="textAreaBottom" fmla="*/ 10221480 h 10221840"/>
            </a:gdLst>
            <a:ahLst/>
            <a:rect l="textAreaLeft" t="textAreaTop" r="textAreaRight" b="textAreaBottom"/>
            <a:pathLst>
              <a:path w="21600" h="31156">
                <a:moveTo>
                  <a:pt x="4" y="0"/>
                </a:moveTo>
                <a:arcTo wR="4" hR="4" stAng="16200000" swAng="-5400000"/>
                <a:lnTo>
                  <a:pt x="0" y="31152"/>
                </a:lnTo>
                <a:arcTo wR="4" hR="4" stAng="10800000" swAng="-5400000"/>
                <a:lnTo>
                  <a:pt x="21596" y="311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0" y="0"/>
            <a:ext cx="7086600" cy="10221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10221840"/>
              <a:gd name="textAreaBottom" fmla="*/ 10221480 h 10221840"/>
            </a:gdLst>
            <a:ahLst/>
            <a:rect l="textAreaLeft" t="textAreaTop" r="textAreaRight" b="textAreaBottom"/>
            <a:pathLst>
              <a:path w="21600" h="31156">
                <a:moveTo>
                  <a:pt x="4" y="0"/>
                </a:moveTo>
                <a:arcTo wR="4" hR="4" stAng="16200000" swAng="-5400000"/>
                <a:lnTo>
                  <a:pt x="0" y="31152"/>
                </a:lnTo>
                <a:arcTo wR="4" hR="4" stAng="10800000" swAng="-5400000"/>
                <a:lnTo>
                  <a:pt x="21596" y="3115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0"/>
            <a:ext cx="3070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016520" y="0"/>
            <a:ext cx="3070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560" y="766800"/>
            <a:ext cx="510228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el Gothic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44640" y="4855680"/>
            <a:ext cx="526896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0" y="9709200"/>
            <a:ext cx="3070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5"/>
          </p:nvPr>
        </p:nvSpPr>
        <p:spPr>
          <a:xfrm>
            <a:off x="4016520" y="9709200"/>
            <a:ext cx="30636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81654-83D3-4945-A060-857C357D98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02280" cy="3827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4640" y="4855680"/>
            <a:ext cx="526896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16520" y="9709200"/>
            <a:ext cx="3063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63DC6-5733-41A7-8F79-3FE4B96376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6257-5875-43E0-9872-51CB34B32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60D8-1507-4C8F-949C-18E6B1002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EA81-611C-475F-8750-D0574E799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FE3D-A594-4E74-8F2E-C585C27DE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DD4B-C035-4E2D-93BC-C86A136F8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866F-E1BA-4E2B-9244-A4DF0C488C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A8A24-D54F-485F-BF9F-D9870088BF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3853B-14B1-4EAD-998A-5E2A106BC3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EFF9E-0099-4A4F-A479-343235B0C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A5A8-BBE5-4C7A-9DC9-FD502C5576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0D5C4-DB57-44A8-837C-386AE5E288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08A3F-6FF3-416A-8469-D6B3697FF5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B1EE4-DA9A-4FF5-99DE-C9AB36458F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4F10A-8A34-4827-A1CE-29024D4D40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B5E8-DF62-4DE5-9ABE-51314A070B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CFCAE-BD49-4F74-B17C-460F3C6AEA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25917-8ACD-45C2-8022-B97DD25F6C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775F2-2303-46F3-935E-29B116B558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A836E-4E67-4858-9C97-EF4EC58CB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6EB0-6F48-487E-A56B-865B65EA4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8FF6-361D-4485-9310-FBDFF9F6B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6205-7774-43D3-B886-C7617954F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C56E-2407-430C-AA30-CFF17C1B4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EA93-7F8D-461F-ACAC-EA70D6771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8000" y="6606720"/>
            <a:ext cx="6335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000" spc="-1" strike="noStrike">
                <a:solidFill>
                  <a:srgbClr val="000000"/>
                </a:solidFill>
                <a:latin typeface="Frutiger LT Com 87 XBlack Cn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Frutiger LT Com 87 XBlack Cn"/>
              </a:rPr>
              <a:t>Footer 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48000" y="6610320"/>
            <a:ext cx="21243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Frutiger LT Com 87 XBlack C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rutiger LT Com 87 XBlack Cn"/>
              </a:rPr>
              <a:t>#</a:t>
            </a:r>
            <a:fld id="{23D01F74-F133-4C79-8866-F89B3F16E67A}" type="slidenum">
              <a:rPr b="0" lang="en-GB" sz="1000" spc="-1" strike="noStrike">
                <a:solidFill>
                  <a:srgbClr val="000000"/>
                </a:solidFill>
                <a:latin typeface="Frutiger LT Com 87 XBlack C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5" descr=""/>
          <p:cNvPicPr/>
          <p:nvPr/>
        </p:nvPicPr>
        <p:blipFill>
          <a:blip r:embed="rId3"/>
          <a:stretch/>
        </p:blipFill>
        <p:spPr>
          <a:xfrm>
            <a:off x="762120" y="2662200"/>
            <a:ext cx="7619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3492360" y="5516640"/>
            <a:ext cx="500868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2"/>
          <a:srcRect l="0" t="9643" r="0" b="0"/>
          <a:stretch/>
        </p:blipFill>
        <p:spPr>
          <a:xfrm>
            <a:off x="0" y="6480"/>
            <a:ext cx="9144000" cy="1398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a9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536400" y="415800"/>
            <a:ext cx="2883240" cy="579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ftr" idx="3"/>
          </p:nvPr>
        </p:nvSpPr>
        <p:spPr>
          <a:xfrm>
            <a:off x="468000" y="6606720"/>
            <a:ext cx="6335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000" spc="-1" strike="noStrike">
                <a:solidFill>
                  <a:srgbClr val="ffffff"/>
                </a:solidFill>
                <a:latin typeface="Frutiger LT Com 87 XBlack Cn"/>
              </a:defRPr>
            </a:lvl1pPr>
          </a:lstStyle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Frutiger LT Com 87 XBlack Cn"/>
              </a:rPr>
              <a:t>Footer 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4"/>
          </p:nvPr>
        </p:nvSpPr>
        <p:spPr>
          <a:xfrm>
            <a:off x="6948000" y="6610320"/>
            <a:ext cx="212436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ffffff"/>
                </a:solidFill>
                <a:latin typeface="Frutiger LT Com 87 XBlack C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Frutiger LT Com 87 XBlack Cn"/>
              </a:rPr>
              <a:t>#</a:t>
            </a:r>
            <a:fld id="{903EEE74-80C1-49A5-9F29-DB0C44780D03}" type="slidenum">
              <a:rPr b="0" lang="en-GB" sz="1000" spc="-1" strike="noStrike">
                <a:solidFill>
                  <a:srgbClr val="ffffff"/>
                </a:solidFill>
                <a:latin typeface="Frutiger LT Com 87 XBlack C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ndel Gothic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3360" indent="-60336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52704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6360" indent="-37476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37476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374760">
              <a:spcBef>
                <a:spcPts val="499"/>
              </a:spcBef>
              <a:buClr>
                <a:srgbClr val="57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374760">
              <a:spcBef>
                <a:spcPts val="499"/>
              </a:spcBef>
              <a:buClr>
                <a:srgbClr val="57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6767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200" spc="-1" strike="noStrike">
                <a:solidFill>
                  <a:srgbClr val="0db3dd"/>
                </a:solidFill>
                <a:latin typeface="Handel Gothic Com Medium"/>
              </a:rPr>
              <a:t>UAE-IX Update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Handel Gothic"/>
            </a:endParaRPr>
          </a:p>
        </p:txBody>
      </p:sp>
      <p:sp>
        <p:nvSpPr>
          <p:cNvPr id="167" name="Fußzeilenplatzhalter 2"/>
          <p:cNvSpPr/>
          <p:nvPr/>
        </p:nvSpPr>
        <p:spPr>
          <a:xfrm>
            <a:off x="468360" y="6607080"/>
            <a:ext cx="6335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Frutiger LT Com 87 XBlack Cn"/>
              </a:rPr>
              <a:t>The unknown arguments for pee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oliennummernplatzhalter 4"/>
          <p:cNvSpPr/>
          <p:nvPr/>
        </p:nvSpPr>
        <p:spPr>
          <a:xfrm>
            <a:off x="6948360" y="6610320"/>
            <a:ext cx="21243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Frutiger LT Com 87 XBlack Cn"/>
              </a:rPr>
              <a:t>#</a:t>
            </a:r>
            <a:fld id="{C9680F60-668C-49AF-B737-ADB80B5643BB}" type="slidenum">
              <a:rPr b="0" lang="en-GB" sz="1000" spc="-1" strike="noStrike">
                <a:solidFill>
                  <a:srgbClr val="ffffff"/>
                </a:solidFill>
                <a:latin typeface="Frutiger LT Com 87 XBlack C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762120" y="220968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76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520" y="2133360"/>
            <a:ext cx="82231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76000"/>
              </a:lnSpc>
              <a:spcBef>
                <a:spcPts val="499"/>
              </a:spcBef>
              <a:buClr>
                <a:srgbClr val="57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21 (+) Customer Networks 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55 % of all Access Users of GCC Region now ready for peering at the UAE-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Reseller Modell will be announced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UAE-IX will be operated by a daughter company of DE-CIX International under it´s own licence very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75759"/>
                </a:solidFill>
                <a:latin typeface="Frutiger LT Com 55 Roman"/>
              </a:rPr>
              <a:t>Connecting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52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75759"/>
                </a:solidFill>
                <a:latin typeface="Frutiger LT Com 55 Roman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52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75759"/>
                </a:solidFill>
                <a:latin typeface="Frutiger LT Com 55 Roman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76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06:24Z</dcterms:created>
  <dc:creator>Andreas Sturm</dc:creator>
  <dc:description/>
  <dc:language>en-US</dc:language>
  <cp:lastModifiedBy>Andreas Sturm</cp:lastModifiedBy>
  <cp:lastPrinted>2011-03-24T09:45:49Z</cp:lastPrinted>
  <dcterms:modified xsi:type="dcterms:W3CDTF">2013-10-16T15:38:27Z</dcterms:modified>
  <cp:revision>74</cp:revision>
  <dc:subject/>
  <dc:title>PowerPoint-Präsentation</dc:title>
</cp:coreProperties>
</file>