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88400" cy="102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016520" y="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560" y="766800"/>
            <a:ext cx="51022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el Gothic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44640" y="4855680"/>
            <a:ext cx="52689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0" y="970920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5"/>
          </p:nvPr>
        </p:nvSpPr>
        <p:spPr>
          <a:xfrm>
            <a:off x="4016520" y="9709200"/>
            <a:ext cx="30636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2CBF6-28AA-48BD-A055-4C96BEF2E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02280" cy="3827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4640" y="4855680"/>
            <a:ext cx="52689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16520" y="9709200"/>
            <a:ext cx="3063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C24C9-7995-402A-A5A8-065777268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638D-FE60-4F8E-814F-31977D8D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B8F0-6810-4408-B758-314C8AC2F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6895-9E57-4BD4-A4A4-50076FD2D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48FF-50DA-410D-A28E-DF183EF15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FA06-19FD-4AEC-8D50-4E6AAA505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5575-ED54-4F65-9945-5BC56CAD50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49575-EE4F-4819-8483-B929CA3AF9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1E024-854E-4DA8-9CAE-BD9DC424A0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1D7CE-0303-4233-A09C-C6A190502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96D3-ED02-428E-A1AF-418129D59F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F6706-50C2-4A59-9332-F30527C114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20E04-7231-4950-893E-2FD9DA1698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1477-2672-4EBA-BE40-9A5FA95AAB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0E69-AC8B-4773-B606-B2432E435B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2D3D-B3AE-483C-930D-BD9F6E28F0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155CC-09F2-4877-B215-C8B921DFC1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3BFF9-FF92-49D2-9288-BE648560B0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E00C3-7929-43CD-9981-7FBAC0FB13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E19F6-82A2-4767-9916-F949012A3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88B9-26FE-4690-9DD5-8BF3428A9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FC31-B8B4-4CB0-AACA-E69B617FE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C603-87A0-4127-8EF6-E5A9BF541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0E64-9BEE-4CAE-8955-EC527ECD9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3DCE-E77B-4EBD-BE72-9777F986D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8000" y="6606720"/>
            <a:ext cx="6335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000" spc="-1" strike="noStrike">
                <a:solidFill>
                  <a:srgbClr val="000000"/>
                </a:solidFill>
                <a:latin typeface="Frutiger LT Com 87 XBlack Cn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87 XBlack Cn"/>
              </a:rPr>
              <a:t>Footer 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4800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Frutiger LT Com 87 XBlack C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rutiger LT Com 87 XBlack Cn"/>
              </a:rPr>
              <a:t>#</a:t>
            </a:r>
            <a:fld id="{F0CC509F-295D-439C-8C07-17D5EF9C0F0E}" type="slidenum">
              <a:rPr b="0" lang="en-GB" sz="1000" spc="-1" strike="noStrike">
                <a:solidFill>
                  <a:srgbClr val="000000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"/>
          <p:cNvPicPr/>
          <p:nvPr/>
        </p:nvPicPr>
        <p:blipFill>
          <a:blip r:embed="rId3"/>
          <a:stretch/>
        </p:blipFill>
        <p:spPr>
          <a:xfrm>
            <a:off x="762120" y="2662200"/>
            <a:ext cx="7619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3492360" y="5516640"/>
            <a:ext cx="500868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2"/>
          <a:srcRect l="0" t="9643" r="0" b="0"/>
          <a:stretch/>
        </p:blipFill>
        <p:spPr>
          <a:xfrm>
            <a:off x="0" y="6480"/>
            <a:ext cx="9144000" cy="1398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a9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536400" y="415800"/>
            <a:ext cx="288324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ftr" idx="3"/>
          </p:nvPr>
        </p:nvSpPr>
        <p:spPr>
          <a:xfrm>
            <a:off x="468000" y="6606720"/>
            <a:ext cx="6335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000" spc="-1" strike="noStrike">
                <a:solidFill>
                  <a:srgbClr val="ffffff"/>
                </a:solidFill>
                <a:latin typeface="Frutiger LT Com 87 XBlack Cn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Frutiger LT Com 87 XBlack Cn"/>
              </a:rPr>
              <a:t>Footer 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4"/>
          </p:nvPr>
        </p:nvSpPr>
        <p:spPr>
          <a:xfrm>
            <a:off x="694800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Frutiger LT Com 87 XBlack C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#</a:t>
            </a:r>
            <a:fld id="{FBBEB67A-2D90-4B83-964E-91E678BA22FB}" type="slidenum"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el Gothic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3360" indent="-6033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6360" indent="-3747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3747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374760">
              <a:spcBef>
                <a:spcPts val="499"/>
              </a:spcBef>
              <a:buClr>
                <a:srgbClr val="57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374760">
              <a:spcBef>
                <a:spcPts val="499"/>
              </a:spcBef>
              <a:buClr>
                <a:srgbClr val="57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6767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200" spc="-1" strike="noStrike">
                <a:solidFill>
                  <a:srgbClr val="0db3dd"/>
                </a:solidFill>
                <a:latin typeface="Handel Gothic Com Medium"/>
              </a:rPr>
              <a:t>UAE-IX Updat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7" name="Fußzeilenplatzhalter 2"/>
          <p:cNvSpPr/>
          <p:nvPr/>
        </p:nvSpPr>
        <p:spPr>
          <a:xfrm>
            <a:off x="468360" y="6607080"/>
            <a:ext cx="6335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Frutiger LT Com 87 XBlack Cn"/>
              </a:rPr>
              <a:t>The unknown arguments for pee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liennummernplatzhalter 4"/>
          <p:cNvSpPr/>
          <p:nvPr/>
        </p:nvSpPr>
        <p:spPr>
          <a:xfrm>
            <a:off x="694836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#</a:t>
            </a:r>
            <a:fld id="{A6AEE900-5096-451D-93D0-422D670861FB}" type="slidenum"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62120" y="22096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2133360"/>
            <a:ext cx="82231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76000"/>
              </a:lnSpc>
              <a:spcBef>
                <a:spcPts val="499"/>
              </a:spcBef>
              <a:buClr>
                <a:srgbClr val="57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21 (+) Customer Networks 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55 % of all Access Users of GCC Region now ready for peering at the UAE-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Reseller Modell will be announced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UAE-IX will be operated by a daughter company of DE-CIX International under it´s own licence very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Connecting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75759"/>
                </a:solidFill>
                <a:latin typeface="Frutiger LT Com 55 Roman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75759"/>
                </a:solidFill>
                <a:latin typeface="Frutiger LT Com 55 Roman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76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06:24Z</dcterms:created>
  <dc:creator>Andreas Sturm</dc:creator>
  <dc:description/>
  <dc:language>en-US</dc:language>
  <cp:lastModifiedBy>Andreas Sturm</cp:lastModifiedBy>
  <cp:lastPrinted>2011-03-24T09:45:49Z</cp:lastPrinted>
  <dcterms:modified xsi:type="dcterms:W3CDTF">2013-10-16T15:38:27Z</dcterms:modified>
  <cp:revision>74</cp:revision>
  <dc:subject/>
  <dc:title>PowerPoint-Präsentation</dc:title>
</cp:coreProperties>
</file>