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6756-7442-4B6C-93DD-5C869B6BC8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961A-F10D-49D1-8E27-23DC99FABF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D5CC-58A3-4B79-BBE3-42C68A589E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A28E-A008-4E7B-A370-9934C021FD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7806-9E51-4469-821F-29A975D39D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527C-570E-4FB5-90CF-95DA7D1E81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3CA1-3D5D-445F-B9F0-2ED4D27BE5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BE26-A863-4DC6-B73E-C553B4A785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0FEC-C1C0-4608-9BBE-F5700EDD97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CA87-333D-4C2A-8984-21EB8C44FE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F06B-DD3C-431B-9444-F6B8B526E4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0331-2CEB-4C81-8EE9-F64E7E9720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>
            <a:off x="6019920" y="5460840"/>
            <a:ext cx="7010280" cy="0"/>
          </a:xfrm>
          <a:prstGeom prst="line">
            <a:avLst/>
          </a:prstGeom>
          <a:ln w="12600">
            <a:solidFill>
              <a:srgbClr val="005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1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2" marL="343080" indent="-343080">
              <a:buClr>
                <a:srgbClr val="00589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3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4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5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6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23960" y="925848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895"/>
                </a:solidFill>
                <a:latin typeface="Helvetica Neue"/>
                <a:ea typeface="Helvetica Neue"/>
              </a:rPr>
              <a:t>Serge Radovcic and Desiree Miloshevic, 16 October 2013</a:t>
            </a:r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0553760" y="8807400"/>
            <a:ext cx="1841400" cy="80640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12398400" y="8877240"/>
            <a:ext cx="3240" cy="60480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7556-943A-42D0-B24D-8C71EC0098F1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6381720" y="1128600"/>
            <a:ext cx="5321160" cy="7480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rcRect l="80667" t="87505" r="292" b="522"/>
          <a:stretch/>
        </p:blipFill>
        <p:spPr>
          <a:xfrm>
            <a:off x="10490040" y="8534520"/>
            <a:ext cx="2476800" cy="1168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ripe.net/survey2013" TargetMode="Externa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RIPE NCC Survey 2013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rge Radovcic, RIPE NCC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and 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Desiree Miloshevic, Oxford Internet Institute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16 October 2013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verview of Finding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orporate Governance: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High rating for the corporate governance structur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ncrease operational transparency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nvolve the membership in decision-making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External Relations and Internet Governance: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Lots of demands to increase regional/local presenc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Requests to push corporate level and governments to support IPv6 deploymen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76D3-51E6-442B-A754-5013C21A0CB7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verview of Finding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11360" y="1612440"/>
            <a:ext cx="1229328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Pv6 Deployment: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About two-thirds have a plan for deploymen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About one-third have a budget for deploymen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Requests to help convince decision-makers and govt.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0A62-836F-4008-A366-0EA3F5DA27C9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60" name="Picture 4" descr="S24_Q60_dist_memberSplit"/>
          <p:cNvPicPr/>
          <p:nvPr/>
        </p:nvPicPr>
        <p:blipFill>
          <a:blip r:embed="rId1"/>
          <a:stretch/>
        </p:blipFill>
        <p:spPr>
          <a:xfrm>
            <a:off x="957240" y="4876920"/>
            <a:ext cx="1130616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verview of Finding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41240" y="1420920"/>
            <a:ext cx="11963520" cy="716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IPE Database: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Newcomers suggested it was difficult to understand and updat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Requests for more documentation, how-tos, FAQs, etc.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D138-9277-4CFB-A7B2-F5E9B0FDB10B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64" name="Picture 4" descr="Macintosh SSD:Users:joshua:Dropbox:RIPE-NCC:2013:graphs_2013-08-30e:S32_Q85_means_memberSplit.png"/>
          <p:cNvPicPr/>
          <p:nvPr/>
        </p:nvPicPr>
        <p:blipFill>
          <a:blip r:embed="rId1"/>
          <a:stretch/>
        </p:blipFill>
        <p:spPr>
          <a:xfrm>
            <a:off x="669960" y="4805280"/>
            <a:ext cx="1173636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verview of Finding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ools and Measurements: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mprovement in awareness/satisfaction from 2011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General comments that tools could be more user-friendly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General suggestions: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More ways to contact the RIPE NCC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ink regionally and locally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nvestigate language suppor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FACC-7619-47E9-8FC3-37FF583E1CC0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In Summary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41240" y="1420920"/>
            <a:ext cx="11963520" cy="716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Generally very high ratings throughou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 diverse region with diverse need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Many new members needing greater awarenes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onsistent requests for language support throughout the surve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D1D2-3FB9-42A0-845E-A51FCF241299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RIPE NCC Survey 2013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The Next Steps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05C1-011F-4E34-B749-D07B9CF30CBB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Next Step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IPE NCC will publish a list of areas for investigati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e’ll publish the results of all investigations in 2014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ill consider whether a large-scale survey is needed every two or three years?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ill make survey </a:t>
            </a:r>
            <a:r>
              <a:rPr b="1" i="1" lang="en-US" sz="4200" spc="-1" strike="noStrike" u="sng">
                <a:solidFill>
                  <a:srgbClr val="005894"/>
                </a:solidFill>
                <a:uFillTx/>
                <a:latin typeface="Helvetica Neue Light"/>
              </a:rPr>
              <a:t>much shorter 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next tim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464B-6638-4CFC-9ADD-25FA241DAF55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The RIPE NCC Survey 2013 Repor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Ipad winners from Ireland, Germany, Sweden, Russia and Yemen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7E64-4939-4EA3-80DE-E3A9E419146B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80" name="Picture 1" descr="Rickart.png"/>
          <p:cNvPicPr/>
          <p:nvPr/>
        </p:nvPicPr>
        <p:blipFill>
          <a:blip r:embed="rId1"/>
          <a:stretch/>
        </p:blipFill>
        <p:spPr>
          <a:xfrm>
            <a:off x="3262320" y="3724200"/>
            <a:ext cx="667224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The RIPE NCC Survey 2013 Repor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 u="sng">
                <a:solidFill>
                  <a:srgbClr val="009999"/>
                </a:solidFill>
                <a:uFillTx/>
                <a:latin typeface="Helvetica Neue Light"/>
                <a:hlinkClick r:id="rId1"/>
              </a:rPr>
              <a:t>www.ripe.net/survey2013</a:t>
            </a:r>
            <a:endParaRPr b="0" lang="en-US" sz="70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49A2-F339-4406-841B-F269F3897635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812880" y="4140360"/>
            <a:ext cx="57909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ctr">
            <a:noAutofit/>
          </a:bodyPr>
          <a:p>
            <a:pPr marL="6984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5895"/>
                </a:solidFill>
                <a:latin typeface="Helvetica Neue Light"/>
                <a:ea typeface="Helvetica Neue Light"/>
              </a:rPr>
              <a:t>Questions?</a:t>
            </a:r>
            <a:endParaRPr b="0" lang="en-US" sz="72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Background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e fifth large-scale RIPE NCC surve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arried out by the Oxford Internet Institute (OII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Ensures anonymity and independent analysi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e surveyed RIPE NCC members and other interested parti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urvey open to everyone, inside and outside the RIPE NCC service regi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6B69-A59E-4E0A-9B56-575D122B8C3C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Focus Groups/Interview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372960" indent="-3729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ocus Groups/Interviews Nov 2012-Feb 2013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2960" indent="-3729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arried out by John Earls and Desiree Miloshevic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2960" indent="-3729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Held in 13 countries around the service regi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2960" indent="-3729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Participants a mix of all stakeholders and member types/siz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2960" indent="-3729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Let’s us know about important issues when building the surve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2960" indent="-372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2960" indent="-372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1DEC-B2D7-4238-B702-B2C481DC4581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Survey Response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Best response rate ever to a RIPE NCC surve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Over 3,600 participants 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   (2,919 members, 712 other interested parties) 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Most questions received over 2,000 respons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75 of 76 countries in our service region represented, 39 countries from outsid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4F95-AFBE-46B0-A31E-387AD4F79887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Survey Response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41240" y="1923840"/>
            <a:ext cx="11839680" cy="699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9A1D-5BC4-4081-8FE1-93C0AF92F331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37" name="Picture 4" descr="top10_countries_members"/>
          <p:cNvPicPr/>
          <p:nvPr/>
        </p:nvPicPr>
        <p:blipFill>
          <a:blip r:embed="rId1"/>
          <a:stretch/>
        </p:blipFill>
        <p:spPr>
          <a:xfrm>
            <a:off x="380880" y="2789280"/>
            <a:ext cx="12242880" cy="6119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>
            <a:off x="741240" y="1563840"/>
            <a:ext cx="1159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58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ountry responses largely corresponded to membership figures 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Survey Response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69960" y="1420920"/>
            <a:ext cx="11963520" cy="716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Just over half of respondents from ISP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Just over half were network operators/engineer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lmost 30% of member responses from those who joined the RIPE NCC in the last two year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4F69-E793-4713-8118-96085B3EF1C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42" name="Picture 4" descr="S3_Q4_dist_members"/>
          <p:cNvPicPr/>
          <p:nvPr/>
        </p:nvPicPr>
        <p:blipFill>
          <a:blip r:embed="rId1"/>
          <a:stretch/>
        </p:blipFill>
        <p:spPr>
          <a:xfrm>
            <a:off x="380880" y="4660920"/>
            <a:ext cx="1209852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RIPE NCC Survey 2013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Findings from the OII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27B6-6542-4390-8F38-8F343E1CADBE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verview of Finding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41240" y="1420920"/>
            <a:ext cx="11963520" cy="716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Good satisfaction overall and with individual services/activities (all rated over 5 out of 7 in terms of importance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0AE3-252F-4A38-954F-A727D20A5E24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49" name="Picture 4" descr="S7_Q10_means_members"/>
          <p:cNvPicPr/>
          <p:nvPr/>
        </p:nvPicPr>
        <p:blipFill>
          <a:blip r:embed="rId1"/>
          <a:stretch/>
        </p:blipFill>
        <p:spPr>
          <a:xfrm>
            <a:off x="598320" y="3797280"/>
            <a:ext cx="11808000" cy="59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verview of Finding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41240" y="1420560"/>
            <a:ext cx="11963520" cy="755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ustomer Services: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Let us have phone contact and extend Livecha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rovide some support in local language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4F90-3B36-48E5-BF42-7F5264D45515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53" name="Picture 5" descr="S9_Q12_means_members"/>
          <p:cNvPicPr/>
          <p:nvPr/>
        </p:nvPicPr>
        <p:blipFill>
          <a:blip r:embed="rId1"/>
          <a:stretch/>
        </p:blipFill>
        <p:spPr>
          <a:xfrm>
            <a:off x="741240" y="4371840"/>
            <a:ext cx="11449080" cy="3745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11:38:03Z</dcterms:created>
  <dc:creator/>
  <dc:description/>
  <cp:keywords/>
  <dc:language>en-US</dc:language>
  <cp:lastModifiedBy>Fergal Cunningham</cp:lastModifiedBy>
  <cp:lastPrinted>2011-10-21T08:22:43Z</cp:lastPrinted>
  <dcterms:modified xsi:type="dcterms:W3CDTF">2013-10-15T12:22:04Z</dcterms:modified>
  <cp:revision>63</cp:revision>
  <dc:subject/>
  <dc:title>Slide 1</dc:title>
</cp:coreProperties>
</file>