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3E4A-D85B-43F9-B28F-BC785857BF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357B-21F6-4D68-9D38-76C543F024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5516-31EC-4E30-BEF9-5B4C5CB59D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8270-DAEC-42C6-AB48-2037DF10AB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1420-3BC4-43D0-BBD3-29957C214D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A6A7-F9EC-4DE7-984A-D0076C915C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4967-02CE-4CA1-8AC2-9389871A9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A9D6-BA0C-4F0F-A37B-353A8C9ABE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7D36-C9EE-423D-A8A0-6146214D55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D4E3-F3EB-4BB0-A255-93A73526C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B7E4-3F07-4826-92E9-DFCBA3B153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E522-369F-457E-A0A1-75046B4CCC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>
            <a:off x="6019920" y="5460840"/>
            <a:ext cx="7010280" cy="0"/>
          </a:xfrm>
          <a:prstGeom prst="line">
            <a:avLst/>
          </a:prstGeom>
          <a:ln w="12600">
            <a:solidFill>
              <a:srgbClr val="005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1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2" marL="343080" indent="-343080">
              <a:buClr>
                <a:srgbClr val="00589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3" marL="343080" indent="-343080">
              <a:buClr>
                <a:srgbClr val="00589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4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5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lvl="6" marL="343080" indent="-343080">
              <a:buClr>
                <a:srgbClr val="00589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Click to edit the title text forma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11000" y="1612440"/>
            <a:ext cx="117601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2" marL="1346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3" marL="1917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4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5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6" marL="2489040" indent="-25380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23960" y="925848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t">
            <a:noAutofit/>
          </a:bodyPr>
          <a:p>
            <a:pPr marL="6984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895"/>
                </a:solidFill>
                <a:latin typeface="Helvetica Neue"/>
                <a:ea typeface="Helvetica Neue"/>
              </a:rPr>
              <a:t>Serge Radovcic and Desiree Miloshevic, 16 October 2013</a:t>
            </a:r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0553760" y="8807400"/>
            <a:ext cx="1841400" cy="8064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2398400" y="8877240"/>
            <a:ext cx="3240" cy="604800"/>
          </a:xfrm>
          <a:prstGeom prst="line">
            <a:avLst/>
          </a:prstGeom>
          <a:ln w="1260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36560" y="1244520"/>
            <a:ext cx="12268080" cy="0"/>
          </a:xfrm>
          <a:prstGeom prst="line">
            <a:avLst/>
          </a:prstGeom>
          <a:ln w="25560">
            <a:solidFill>
              <a:srgbClr val="005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0464-8FD4-4C1A-8B63-F94A569083F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381720" y="1128600"/>
            <a:ext cx="5321160" cy="748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80667" t="87505" r="292" b="522"/>
          <a:stretch/>
        </p:blipFill>
        <p:spPr>
          <a:xfrm>
            <a:off x="10490040" y="8534520"/>
            <a:ext cx="2476800" cy="116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5894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ipe.net/survey2013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94360" y="255276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RIPE NCC Survey 2013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4360" y="5613480"/>
            <a:ext cx="6680160" cy="276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Serge Radovcic, RIPE NCC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and 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Desiree Miloshevic, Oxford Internet Institute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894"/>
                </a:solidFill>
                <a:latin typeface="Helvetica Neue"/>
              </a:rPr>
              <a:t>16 October 2013</a:t>
            </a:r>
            <a:endParaRPr b="0" lang="en-US" sz="2400" spc="-1" strike="noStrike">
              <a:solidFill>
                <a:srgbClr val="00589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rporate Governance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High rating for the corporate governance structur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crease operational transparenc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volve the membership in decision-making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External Relations and Internet Governance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Lots of demands to increase regional/local presenc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quests to push corporate level and governments to support IPv6 deploymen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2D9-201D-4064-B683-6F605882546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11360" y="1612440"/>
            <a:ext cx="1229328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IPv6 Deployment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bout two-thirds have a plan for deploymen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About one-third have a budget for deploymen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quests to help convince decision-makers and govt.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54C4-0C3C-4DD4-BDC7-13FC74B277D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60" name="Picture 4" descr="S24_Q60_dist_memberSplit"/>
          <p:cNvPicPr/>
          <p:nvPr/>
        </p:nvPicPr>
        <p:blipFill>
          <a:blip r:embed="rId1"/>
          <a:stretch/>
        </p:blipFill>
        <p:spPr>
          <a:xfrm>
            <a:off x="957240" y="4876920"/>
            <a:ext cx="113061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41240" y="1420920"/>
            <a:ext cx="11963520" cy="716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Database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Newcomers suggested it was difficult to understand and update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Requests for more documentation, how-tos, FAQs, etc.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1ECE-912F-4A05-9448-E1E8E171C745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64" name="Picture 4" descr="Macintosh SSD:Users:joshua:Dropbox:RIPE-NCC:2013:graphs_2013-08-30e:S32_Q85_means_memberSplit.png"/>
          <p:cNvPicPr/>
          <p:nvPr/>
        </p:nvPicPr>
        <p:blipFill>
          <a:blip r:embed="rId1"/>
          <a:stretch/>
        </p:blipFill>
        <p:spPr>
          <a:xfrm>
            <a:off x="669960" y="4805280"/>
            <a:ext cx="1173636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ools and Measurements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mprovement in awareness/satisfaction from 2011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General comments that tools could be more user-friendl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General suggestions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More ways to contact the RIPE NCC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Think regionally and locally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Investigate language suppor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572E-607F-4637-9A8D-A3EF9DE3D4FA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In Summary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41240" y="1420920"/>
            <a:ext cx="11963520" cy="716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Generally very high ratings throughout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 diverse region with diverse need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any new members needing greater awarenes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nsistent requests for language support throughout the surve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024F-F060-4F7D-BED1-D12F8C7B0A68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IPE NCC Survey 2013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The Next Steps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C15A-8EB4-44F2-888E-404AE84C18B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Next Step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RIPE NCC will publish a list of areas for investigat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e’ll publish the results of all investigations in 2014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ill consider whether a large-scale survey is needed every two or three years?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ill make survey </a:t>
            </a:r>
            <a:r>
              <a:rPr b="1" i="1" lang="en-US" sz="4200" spc="-1" strike="noStrike" u="sng">
                <a:solidFill>
                  <a:srgbClr val="005894"/>
                </a:solidFill>
                <a:uFillTx/>
                <a:latin typeface="Helvetica Neue Light"/>
              </a:rPr>
              <a:t>much shorter 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next tim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BDF0-4971-4667-B97F-3AF81EC95C9D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The RIPE NCC Survey 2013 Repor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894"/>
                </a:solidFill>
                <a:latin typeface="Helvetica Neue Light"/>
              </a:rPr>
              <a:t>Ipad winners from Ireland, Germany, Sweden, Russia and Yemen</a:t>
            </a:r>
            <a:endParaRPr b="0" lang="en-US" sz="48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9FE3-608E-4749-B55E-E72F7E54FAA2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80" name="Picture 1" descr="Rickart.png"/>
          <p:cNvPicPr/>
          <p:nvPr/>
        </p:nvPicPr>
        <p:blipFill>
          <a:blip r:embed="rId1"/>
          <a:stretch/>
        </p:blipFill>
        <p:spPr>
          <a:xfrm>
            <a:off x="3262320" y="3724200"/>
            <a:ext cx="667224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The RIPE NCC Survey 2013 Report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 u="sng">
                <a:solidFill>
                  <a:srgbClr val="009999"/>
                </a:solidFill>
                <a:uFillTx/>
                <a:latin typeface="Helvetica Neue Light"/>
                <a:hlinkClick r:id="rId1"/>
              </a:rPr>
              <a:t>www.ripe.net/survey2013</a:t>
            </a:r>
            <a:endParaRPr b="0" lang="en-US" sz="70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EFE1-2BFA-4A9C-9EEA-9060566EC1C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812880" y="4140360"/>
            <a:ext cx="5790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0920" tIns="0" bIns="0" anchor="ctr">
            <a:noAutofit/>
          </a:bodyPr>
          <a:p>
            <a:pPr marL="6984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5895"/>
                </a:solidFill>
                <a:latin typeface="Helvetica Neue Light"/>
                <a:ea typeface="Helvetica Neue Light"/>
              </a:rPr>
              <a:t>Questions?</a:t>
            </a:r>
            <a:endParaRPr b="0" lang="en-US" sz="7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Background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The fifth large-scale RIPE NCC surve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arried out by the Oxford Internet Institute (OII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Ensures anonymity and independent analysi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We surveyed RIPE NCC members and other interested parti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Survey open to everyone, inside and outside the RIPE NCC service reg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D80-4947-42CD-831A-22183730EB91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Focus Groups/Interview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Focus Groups/Interviews Nov 2012-Feb 2013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arried out by John Earls and Desiree Miloshevic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Held in 13 countries around the service region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Participants a mix of all stakeholders and member types/siz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Let’s us know about important issues when building the surve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24EF-F756-4945-93F7-5025ED67EB56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urvey Respons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Best response rate ever to a RIPE NCC survey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Over 3,600 participants 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   (2,919 members, 712 other interested parties)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Most questions received over 2,000 response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75 of 76 countries in our service region represented, 39 countries from outside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AADC-3906-4062-A372-CC9B87BCEDBB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urvey Respons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41240" y="1923840"/>
            <a:ext cx="11839680" cy="69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714A-8E5E-4A4D-AE84-2CDA16433072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37" name="Picture 4" descr="top10_countries_members"/>
          <p:cNvPicPr/>
          <p:nvPr/>
        </p:nvPicPr>
        <p:blipFill>
          <a:blip r:embed="rId1"/>
          <a:stretch/>
        </p:blipFill>
        <p:spPr>
          <a:xfrm>
            <a:off x="380880" y="2789280"/>
            <a:ext cx="12242880" cy="6119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741240" y="1563840"/>
            <a:ext cx="1159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58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ountry responses largely corresponded to membership figures 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Survey Response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69960" y="1420920"/>
            <a:ext cx="11963520" cy="716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Just over half of respondents from ISP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Just over half were network operators/enginee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Almost 30% of member responses from those who joined the RIPE NCC in the last two years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6E39-650B-4FA4-9B18-84123A95B410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42" name="Picture 4" descr="S3_Q4_dist_members"/>
          <p:cNvPicPr/>
          <p:nvPr/>
        </p:nvPicPr>
        <p:blipFill>
          <a:blip r:embed="rId1"/>
          <a:stretch/>
        </p:blipFill>
        <p:spPr>
          <a:xfrm>
            <a:off x="380880" y="4660920"/>
            <a:ext cx="120985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RIPE NCC Survey 2013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11000" y="1612440"/>
            <a:ext cx="1196316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5894"/>
                </a:solidFill>
                <a:latin typeface="Helvetica Neue Light"/>
              </a:rPr>
              <a:t>Findings from the OII</a:t>
            </a: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3A43-AE22-4248-8414-7520678FC949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41240" y="1420920"/>
            <a:ext cx="11963520" cy="716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Good satisfaction overall and with individual services/activities (all rated over 5 out of 7 in terms of importance)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4137-7DF9-4994-AA35-CF2BF5A76183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49" name="Picture 4" descr="S7_Q10_means_members"/>
          <p:cNvPicPr/>
          <p:nvPr/>
        </p:nvPicPr>
        <p:blipFill>
          <a:blip r:embed="rId1"/>
          <a:stretch/>
        </p:blipFill>
        <p:spPr>
          <a:xfrm>
            <a:off x="598320" y="3797280"/>
            <a:ext cx="11808000" cy="59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1000" y="253800"/>
            <a:ext cx="117601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5894"/>
                </a:solidFill>
                <a:latin typeface="Helvetica Neue Light"/>
              </a:rPr>
              <a:t>Overview of Findings</a:t>
            </a:r>
            <a:endParaRPr b="0" lang="en-US" sz="50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41240" y="1420560"/>
            <a:ext cx="11963520" cy="755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894"/>
                </a:solidFill>
                <a:latin typeface="Helvetica Neue Light"/>
              </a:rPr>
              <a:t>Customer Services:</a:t>
            </a: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Let us have phone contact and extend Livechat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lvl="1" marL="774720" indent="-25416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894"/>
                </a:solidFill>
                <a:latin typeface="Helvetica Neue Light"/>
              </a:rPr>
              <a:t>Provide some support in local languages</a:t>
            </a:r>
            <a:endParaRPr b="0" lang="en-US" sz="36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5894"/>
              </a:buClr>
              <a:buSzPct val="69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5894"/>
              </a:solidFill>
              <a:latin typeface="Helvetica Neue Ligh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2433320" y="9207360"/>
            <a:ext cx="341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C264-2155-4D1A-86ED-46C0057B1817}" type="slidenum">
              <a:rPr b="0" lang="en-US" sz="1600" spc="-1" strike="noStrike">
                <a:solidFill>
                  <a:srgbClr val="005894"/>
                </a:solidFill>
                <a:latin typeface="Helvetica Neue"/>
                <a:ea typeface="Helvetica Neue"/>
              </a:rPr>
              <a:t>&lt;number&gt;</a:t>
            </a:fld>
            <a:endParaRPr b="0" lang="en-US" sz="1600" spc="-1" strike="noStrike">
              <a:solidFill>
                <a:srgbClr val="005894"/>
              </a:solidFill>
              <a:latin typeface="Helvetica Neue Light"/>
            </a:endParaRPr>
          </a:p>
        </p:txBody>
      </p:sp>
      <p:pic>
        <p:nvPicPr>
          <p:cNvPr id="153" name="Picture 5" descr="S9_Q12_means_members"/>
          <p:cNvPicPr/>
          <p:nvPr/>
        </p:nvPicPr>
        <p:blipFill>
          <a:blip r:embed="rId1"/>
          <a:stretch/>
        </p:blipFill>
        <p:spPr>
          <a:xfrm>
            <a:off x="741240" y="4371840"/>
            <a:ext cx="114490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1:38:03Z</dcterms:created>
  <dc:creator/>
  <dc:description/>
  <cp:keywords/>
  <dc:language>en-US</dc:language>
  <cp:lastModifiedBy>Fergal Cunningham</cp:lastModifiedBy>
  <cp:lastPrinted>2011-10-21T08:22:43Z</cp:lastPrinted>
  <dcterms:modified xsi:type="dcterms:W3CDTF">2013-10-15T12:22:04Z</dcterms:modified>
  <cp:revision>63</cp:revision>
  <dc:subject/>
  <dc:title>Slide 1</dc:title>
</cp:coreProperties>
</file>