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562F-9108-44C7-A96C-AAB56D1BE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8DF2-84F4-4B4F-9682-DA611FD946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BC37-3FDF-4A3E-B78F-CA379A35A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7CF2-A35E-419D-8B79-4BDA541B0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8DC8-E56A-44A5-8656-68532150E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6555-2BC8-491D-BB13-44E0AD1C91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D090-BCAD-4790-B04B-3D2E92045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22D7-FEDC-4964-AB46-573BEBA7A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EB25-0FD0-4F09-B0B5-4F14C61703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C70F-4DD1-4B38-BDFE-A47A309359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FD81-1A7C-46B8-AC0A-9A8056631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52F5-EE59-431A-B30E-E74D0DC6BC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Presenter Name, Date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248-C0FF-47D5-959D-392A2D13B0A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IPE NCC DNS Update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and Buddhdev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RIPE NCC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4AB-6598-4B93-A2F7-68DD773DFB4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1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GII Team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28" name="Picture 1" descr="Kaveh_Ranjbar_112x165.jpg"/>
          <p:cNvPicPr/>
          <p:nvPr/>
        </p:nvPicPr>
        <p:blipFill>
          <a:blip r:embed="rId1"/>
          <a:stretch/>
        </p:blipFill>
        <p:spPr>
          <a:xfrm>
            <a:off x="957240" y="1781280"/>
            <a:ext cx="1873440" cy="27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Romeo-Zwart-s.jpg"/>
          <p:cNvPicPr/>
          <p:nvPr/>
        </p:nvPicPr>
        <p:blipFill>
          <a:blip r:embed="rId2"/>
          <a:stretch/>
        </p:blipFill>
        <p:spPr>
          <a:xfrm>
            <a:off x="95724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olin_Petrie112x165.jpg"/>
          <p:cNvPicPr/>
          <p:nvPr/>
        </p:nvPicPr>
        <p:blipFill>
          <a:blip r:embed="rId3"/>
          <a:stretch/>
        </p:blipFill>
        <p:spPr>
          <a:xfrm>
            <a:off x="7294680" y="1781280"/>
            <a:ext cx="1871640" cy="275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evin_bayer.jpg"/>
          <p:cNvPicPr/>
          <p:nvPr/>
        </p:nvPicPr>
        <p:blipFill>
          <a:blip r:embed="rId4"/>
          <a:stretch/>
        </p:blipFill>
        <p:spPr>
          <a:xfrm>
            <a:off x="9742320" y="1781280"/>
            <a:ext cx="1873440" cy="275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nigo_Ortiz_De_Urbina_Cazenave112x165.jpg"/>
          <p:cNvPicPr/>
          <p:nvPr/>
        </p:nvPicPr>
        <p:blipFill>
          <a:blip r:embed="rId5"/>
          <a:stretch/>
        </p:blipFill>
        <p:spPr>
          <a:xfrm>
            <a:off x="477360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ergey_Polzunov.jpg"/>
          <p:cNvPicPr/>
          <p:nvPr/>
        </p:nvPicPr>
        <p:blipFill>
          <a:blip r:embed="rId6"/>
          <a:stretch/>
        </p:blipFill>
        <p:spPr>
          <a:xfrm>
            <a:off x="7294680" y="5524560"/>
            <a:ext cx="1871640" cy="275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vasco_visser.jpg"/>
          <p:cNvPicPr/>
          <p:nvPr/>
        </p:nvPicPr>
        <p:blipFill>
          <a:blip r:embed="rId7"/>
          <a:stretch/>
        </p:blipFill>
        <p:spPr>
          <a:xfrm>
            <a:off x="9742320" y="5524560"/>
            <a:ext cx="1873440" cy="2759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anand_buddhdev.jpg"/>
          <p:cNvPicPr/>
          <p:nvPr/>
        </p:nvPicPr>
        <p:blipFill>
          <a:blip r:embed="rId8"/>
          <a:stretch/>
        </p:blipFill>
        <p:spPr>
          <a:xfrm>
            <a:off x="4773600" y="1781280"/>
            <a:ext cx="1873440" cy="27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ur Servic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NS (K-root, authoritative DNS, secondary DNS, ENUM, AS112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DNSM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outing information service (RIS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Atlas ancho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Atlas back-end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3F4-9413-49D7-9E4A-951894A27D3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K-roo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rvice stable with 17 instanc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jor OS upgrade in progr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Better configuration management and deployment with Ansibl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ome sites undergoing hardware replace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o expansion for the time being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xpansion is planned for 2015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atch for announcements in 2014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B3F9-FEAB-491A-BFF5-773DE563610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horitative DNS Instanc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3" name="Content Placeholder 4" descr="rijksmuseum.jpg"/>
          <p:cNvPicPr/>
          <p:nvPr/>
        </p:nvPicPr>
        <p:blipFill>
          <a:blip r:embed="rId1"/>
          <a:srcRect l="0" t="4278" r="0" b="4278"/>
          <a:stretch/>
        </p:blipFill>
        <p:spPr>
          <a:xfrm>
            <a:off x="711360" y="1612800"/>
            <a:ext cx="9894600" cy="60278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98F6-5838-4C35-A05A-16ADCC0FDB7E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5" name="Picture 5" descr="London-Tube.jpg"/>
          <p:cNvPicPr/>
          <p:nvPr/>
        </p:nvPicPr>
        <p:blipFill>
          <a:blip r:embed="rId2"/>
          <a:stretch/>
        </p:blipFill>
        <p:spPr>
          <a:xfrm>
            <a:off x="4199040" y="2932200"/>
            <a:ext cx="7797600" cy="55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Authoritative DN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mprovements to provisioning system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ulti-master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siliency against hardware or software failur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instance by the end of 2013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B53-894D-469B-BE8E-750B283BE18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cTLD Secondary DN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71 ccTLDs (26 in RIPE NCC service region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240 zon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Second-level domain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ternationalized domain nam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est-effort – no service-level agreement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6920" indent="-37692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prefer an open and transparent approach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o qualifies for this RIPE NCC service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66800" indent="-2512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hat criteria should the RIPE NCC apply when offering or rejecting this service to a ccTLD?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C7D-8931-4279-AB71-5704534C62E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ENUM (e164.arpa)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52 delegations (no change since RIPE 66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6 secure delegation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587-2426-4235-941D-158ADB93D90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DNSMON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tlas-based interface in developmen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easurements from RIPE Atlas anchors and prob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esting in Q4 2013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lease in Q1 2014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TM-based DNSMON deprec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Will be unsupported after 2013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aw data from RIPE Atla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dapt your script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BAFC-ADE7-431E-BD0D-E03E26B0EB9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and Buddhdev</cp:lastModifiedBy>
  <dcterms:modified xsi:type="dcterms:W3CDTF">2013-10-16T08:58:11Z</dcterms:modified>
  <cp:revision>24</cp:revision>
  <dc:subject/>
  <dc:title>Slide 1</dc:title>
</cp:coreProperties>
</file>