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11B0-9C34-4F55-A7DD-BDA7F568F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E1B0-9697-4D40-B594-1DB2F4206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585E-58F0-478B-9FFF-73835B55A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DE23-1EB7-40C8-B90F-BF23163FE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3EAC-D432-46C3-AC2D-E14008FCEF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FCE9-05F6-4A18-8E97-51BB07176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A9BE-DFBD-4762-9E9E-51384435C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0A5E-0F4D-4C71-B6DC-4F84683FA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D8BA-3B1A-47AE-8751-D36493570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44D-63FF-4E6F-AE5A-C4C0D6C600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47DF-F551-43CE-A9D7-AA3EB26F3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9C4A-1D13-4B4B-9304-3CA5963A31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A31-4C77-4091-9991-FC7492B2217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IPE NCC DNS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and Buddhdev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DE3-6C31-46B9-8A0B-0B63159A07C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GII Team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28" name="Picture 1" descr="Kaveh_Ranjbar_112x165.jpg"/>
          <p:cNvPicPr/>
          <p:nvPr/>
        </p:nvPicPr>
        <p:blipFill>
          <a:blip r:embed="rId1"/>
          <a:stretch/>
        </p:blipFill>
        <p:spPr>
          <a:xfrm>
            <a:off x="957240" y="1781280"/>
            <a:ext cx="1873440" cy="27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Romeo-Zwart-s.jpg"/>
          <p:cNvPicPr/>
          <p:nvPr/>
        </p:nvPicPr>
        <p:blipFill>
          <a:blip r:embed="rId2"/>
          <a:stretch/>
        </p:blipFill>
        <p:spPr>
          <a:xfrm>
            <a:off x="95724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olin_Petrie112x165.jpg"/>
          <p:cNvPicPr/>
          <p:nvPr/>
        </p:nvPicPr>
        <p:blipFill>
          <a:blip r:embed="rId3"/>
          <a:stretch/>
        </p:blipFill>
        <p:spPr>
          <a:xfrm>
            <a:off x="7294680" y="1781280"/>
            <a:ext cx="1871640" cy="275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evin_bayer.jpg"/>
          <p:cNvPicPr/>
          <p:nvPr/>
        </p:nvPicPr>
        <p:blipFill>
          <a:blip r:embed="rId4"/>
          <a:stretch/>
        </p:blipFill>
        <p:spPr>
          <a:xfrm>
            <a:off x="9742320" y="1781280"/>
            <a:ext cx="1873440" cy="275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nigo_Ortiz_De_Urbina_Cazenave112x165.jpg"/>
          <p:cNvPicPr/>
          <p:nvPr/>
        </p:nvPicPr>
        <p:blipFill>
          <a:blip r:embed="rId5"/>
          <a:stretch/>
        </p:blipFill>
        <p:spPr>
          <a:xfrm>
            <a:off x="477360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ergey_Polzunov.jpg"/>
          <p:cNvPicPr/>
          <p:nvPr/>
        </p:nvPicPr>
        <p:blipFill>
          <a:blip r:embed="rId6"/>
          <a:stretch/>
        </p:blipFill>
        <p:spPr>
          <a:xfrm>
            <a:off x="7294680" y="5524560"/>
            <a:ext cx="1871640" cy="275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vasco_visser.jpg"/>
          <p:cNvPicPr/>
          <p:nvPr/>
        </p:nvPicPr>
        <p:blipFill>
          <a:blip r:embed="rId7"/>
          <a:stretch/>
        </p:blipFill>
        <p:spPr>
          <a:xfrm>
            <a:off x="974232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anand_buddhdev.jpg"/>
          <p:cNvPicPr/>
          <p:nvPr/>
        </p:nvPicPr>
        <p:blipFill>
          <a:blip r:embed="rId8"/>
          <a:stretch/>
        </p:blipFill>
        <p:spPr>
          <a:xfrm>
            <a:off x="4773600" y="1781280"/>
            <a:ext cx="1873440" cy="27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ur Servic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NS (K-root, authoritative DNS, secondary DNS, ENUM, AS112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NSM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outing information service (RIS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Atlas ancho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Atlas back-end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5463-85C5-4725-A526-683585EF0314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K-roo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rvice stable with 17 instanc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jor OS upgrade in progr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Better configuration management and deployment with Ansibl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 sites undergoing hardware replace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o expansion for the time be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xpansion is planned for 2015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atch for announcements in 2014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84D-1045-4415-91AD-3FD428816D9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horitative DNS Instanc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3" name="Content Placeholder 4" descr="rijksmuseum.jpg"/>
          <p:cNvPicPr/>
          <p:nvPr/>
        </p:nvPicPr>
        <p:blipFill>
          <a:blip r:embed="rId1"/>
          <a:srcRect l="0" t="4278" r="0" b="4278"/>
          <a:stretch/>
        </p:blipFill>
        <p:spPr>
          <a:xfrm>
            <a:off x="711360" y="1612800"/>
            <a:ext cx="9894600" cy="60278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67F0-887C-4D99-942C-E2DE3D8B8B6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5" name="Picture 5" descr="London-Tube.jpg"/>
          <p:cNvPicPr/>
          <p:nvPr/>
        </p:nvPicPr>
        <p:blipFill>
          <a:blip r:embed="rId2"/>
          <a:stretch/>
        </p:blipFill>
        <p:spPr>
          <a:xfrm>
            <a:off x="4199040" y="2932200"/>
            <a:ext cx="7797600" cy="55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horitative DN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ments to provisioning syst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ulti-master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siliency against hardware or software failur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instance by the end of 2013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9BA-F158-4388-AB7D-B5FD340502C4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cTLD Secondary DN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71 ccTLDs (26 in RIPE NCC service region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240 zon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econd-level domai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ternationalized domain nam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est-effort – no service-level agreemen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prefer an open and transparent approach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o qualifies for this RIPE NCC service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at criteria should the RIPE NCC apply when offering or rejecting this service to a ccTLD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B385-D161-4928-B265-054F233729B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ENUM (e164.arpa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52 delegations (no change since RIPE 66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6 secure delegation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0AA6-C778-4D95-A675-0B775507657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DNSM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tlas-based interface in develop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easurements from RIPE Atlas anchors and prob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sting in Q4 2013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lease in Q1 2014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TM-based DNSMON deprec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ill be unsupported after 2013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aw data from RIPE Atla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dapt your scrip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9420-0233-4BFD-9297-F0D1E1688E08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and Buddhdev</cp:lastModifiedBy>
  <dcterms:modified xsi:type="dcterms:W3CDTF">2013-10-16T08:58:11Z</dcterms:modified>
  <cp:revision>24</cp:revision>
  <dc:subject/>
  <dc:title>Slide 1</dc:title>
</cp:coreProperties>
</file>