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5215-36A5-4AB0-BE35-0F3DE550E4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8F23-2EBF-464A-8C17-6A86009A3F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BF7A-12BB-459B-BF8C-4BFB8EA6AB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31CF-E910-490E-8585-EE38C97804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17FB-3C5C-4DCE-9DF0-47734B575D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E001-6ED3-4CC4-8FA6-A49A3505F9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E294-6718-47DB-9815-7EA301490B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308D-611E-40E1-A1E7-4873980D20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7779-B6D6-42F7-8292-0A329A20AB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6458-AE11-4C59-B7DE-4385B75EAD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C4A9-0672-4A67-BCBD-E8ED7B54D6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F893-BB43-45B8-AABF-597986A8C9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6019920" y="5460840"/>
            <a:ext cx="7010280" cy="0"/>
          </a:xfrm>
          <a:prstGeom prst="line">
            <a:avLst/>
          </a:prstGeom>
          <a:ln w="12600">
            <a:solidFill>
              <a:srgbClr val="004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1" marL="343080" indent="-343080">
              <a:buClr>
                <a:srgbClr val="004d55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2" marL="343080" indent="-343080">
              <a:buClr>
                <a:srgbClr val="004d55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3" marL="343080" indent="-343080">
              <a:buClr>
                <a:srgbClr val="004d55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4" marL="343080" indent="-343080">
              <a:buClr>
                <a:srgbClr val="004d55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5" marL="343080" indent="-343080">
              <a:buClr>
                <a:srgbClr val="004d55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lvl="6" marL="343080" indent="-343080">
              <a:buClr>
                <a:srgbClr val="004d55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9680" y="939816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068"/>
                </a:solidFill>
                <a:latin typeface="Helvetica Neue"/>
                <a:ea typeface="Helvetica Neue"/>
              </a:rPr>
              <a:t>Presenter Name, Date</a:t>
            </a:r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8319960"/>
            <a:ext cx="13004640" cy="1447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39680" y="939816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esenter Name, Date</a:t>
            </a:r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45" name="Line 5"/>
          <p:cNvSpPr/>
          <p:nvPr/>
        </p:nvSpPr>
        <p:spPr>
          <a:xfrm>
            <a:off x="12420720" y="8699400"/>
            <a:ext cx="0" cy="83844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46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6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8DF4-D071-45C7-B790-B5D2F4FC602E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6381720" y="1128600"/>
            <a:ext cx="5321160" cy="7480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10985400" y="8153280"/>
            <a:ext cx="1778040" cy="1346400"/>
          </a:xfrm>
          <a:prstGeom prst="rect">
            <a:avLst/>
          </a:prstGeom>
          <a:ln w="0">
            <a:noFill/>
          </a:ln>
        </p:spPr>
      </p:pic>
      <p:sp>
        <p:nvSpPr>
          <p:cNvPr id="86" name="Title 1"/>
          <p:cNvSpPr/>
          <p:nvPr/>
        </p:nvSpPr>
        <p:spPr>
          <a:xfrm>
            <a:off x="974880" y="4038480"/>
            <a:ext cx="1105524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 (Headings)"/>
                <a:ea typeface="Gill Sans (Headings)"/>
              </a:rPr>
              <a:t>Questions?</a:t>
            </a:r>
            <a:endParaRPr b="0" lang="en-US" sz="84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4d55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4d55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Light"/>
              </a:rPr>
              <a:t>Interpretation of policy language</a:t>
            </a:r>
            <a:endParaRPr b="0" lang="en-US" sz="4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Jan Žorž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55"/>
                </a:solidFill>
                <a:latin typeface="Helvetica Neue"/>
              </a:rPr>
              <a:t>Completely random member of Internet community, no hats </a:t>
            </a:r>
            <a:r>
              <a:rPr b="0" lang="en-US" sz="2400" spc="-1" strike="noStrike">
                <a:solidFill>
                  <a:srgbClr val="004d55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4d55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Sharing the story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65400" indent="-3654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Afrinic meeting in Zambia this year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65400" indent="-3654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Address Policy WG meeting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65400" indent="-3654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65400" indent="-36540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The text that provoked this presentation: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65400" indent="-3654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65400" indent="-3654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“</a:t>
            </a: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The LIR should also plan to announce the allocation as a single aggregated block in the inter-domain routing system within twelve months.”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EEF2-8AB6-4725-99C3-DD2D3DA11C20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RFC2119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69360" indent="-3693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MUST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1" marL="751320" indent="-2462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d55"/>
                </a:solidFill>
                <a:latin typeface="Helvetica Neue Light"/>
              </a:rPr>
              <a:t>This word, or the terms "REQUIRED" or "SHALL", mean that the definition is an absolute requirement of the specification.</a:t>
            </a:r>
            <a:endParaRPr b="0" lang="en-US" sz="3600" spc="-1" strike="noStrike">
              <a:solidFill>
                <a:srgbClr val="004d55"/>
              </a:solidFill>
              <a:latin typeface="Helvetica Neue Light"/>
            </a:endParaRPr>
          </a:p>
          <a:p>
            <a:pPr marL="369360" indent="-3693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HOULD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1" marL="751320" indent="-2462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d55"/>
                </a:solidFill>
                <a:latin typeface="Helvetica Neue Light"/>
              </a:rPr>
              <a:t>This word, or the adjective "RECOMMENDED", mean that there may exist valid reasons in particular circumstances to ignore a particular item, but the full implications must be understood and carefully weighed before choosing a different course.</a:t>
            </a:r>
            <a:endParaRPr b="0" lang="en-US" sz="3600" spc="-1" strike="noStrike">
              <a:solidFill>
                <a:srgbClr val="004d55"/>
              </a:solidFill>
              <a:latin typeface="Helvetica Neue Light"/>
            </a:endParaRPr>
          </a:p>
          <a:p>
            <a:pPr marL="369360" indent="-3693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0DCB-B54D-4541-8C93-29CA8611880D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What is the RFCs practice?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The key words "MUST", "MUST NOT", "REQUIRED", "SHALL", "SHALL NOT", "SHOULD", "SHOULD NOT", "RECOMMENDED",  "MAY", and "OPTIONAL" in this document are to be interpreted as described in RFC 2119.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503B-4597-4CE8-B662-B0416BAF80EE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There is more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Other terms/words aren’t clearly defined as well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d55"/>
                </a:solidFill>
                <a:latin typeface="Helvetica Neue Light"/>
              </a:rPr>
              <a:t>End User</a:t>
            </a:r>
            <a:endParaRPr b="0" lang="en-US" sz="3600" spc="-1" strike="noStrike">
              <a:solidFill>
                <a:srgbClr val="004d55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d55"/>
                </a:solidFill>
                <a:latin typeface="Helvetica Neue Light"/>
              </a:rPr>
              <a:t>End Site</a:t>
            </a:r>
            <a:endParaRPr b="0" lang="en-US" sz="3600" spc="-1" strike="noStrike">
              <a:solidFill>
                <a:srgbClr val="004d55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d55"/>
                </a:solidFill>
                <a:latin typeface="Helvetica Neue Light"/>
              </a:rPr>
              <a:t>Etc.</a:t>
            </a:r>
            <a:endParaRPr b="0" lang="en-US" sz="36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4D81-9E07-4B1E-99E5-C425AEEFEFC0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elvetica Neue Light"/>
              </a:rPr>
              <a:t>Questions:</a:t>
            </a:r>
            <a:endParaRPr b="0" lang="en-US" sz="5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Is this not a problem and we do nothing?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hould we interpret “should” as a “must”?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hould we adopt the RFC2119 specification in the policy text?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d55"/>
                </a:solidFill>
                <a:latin typeface="Helvetica Neue Light"/>
              </a:rPr>
              <a:t>Should we include other recurring terms/words?</a:t>
            </a: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  <a:p>
            <a:pPr marL="357840" indent="-357840">
              <a:lnSpc>
                <a:spcPct val="120000"/>
              </a:lnSpc>
              <a:spcBef>
                <a:spcPts val="700"/>
              </a:spcBef>
              <a:buClr>
                <a:srgbClr val="004d55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4d55"/>
              </a:solidFill>
              <a:latin typeface="Helvetica Neue Light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12484080" y="929628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00D7-168E-430A-82BE-E617DA35EE1D}" type="slidenum">
              <a:rPr b="0" lang="en-US" sz="1600" spc="-1" strike="noStrike">
                <a:solidFill>
                  <a:srgbClr val="004d55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4d55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an Zorz</cp:lastModifiedBy>
  <dcterms:modified xsi:type="dcterms:W3CDTF">2013-10-16T07:25:25Z</dcterms:modified>
  <cp:revision>7</cp:revision>
  <dc:subject/>
  <dc:title>RIPE Slide Master</dc:title>
</cp:coreProperties>
</file>