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C3C4AB-8108-41C9-B2C5-B7DBDECA52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6AC55A-77D5-4266-B07C-565B3B9301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twitter “@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8DC975-C6CB-46D3-9FE4-F0111FBB70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6D3A-B1C5-4200-932F-DF32D5741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984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B529-14CC-45A1-B068-2F463244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2D0EB-2BA9-454A-8A92-B028E6F3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1E78D-1A06-4FA3-99C8-1320D081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E649F-E964-4DDC-8859-DB36369D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9A432-F140-4D64-9788-5175A5BE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D924B-7F29-4D83-93D6-19EC9918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C6A32-56DB-42DA-A6DF-DE817674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8984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4EB36-5213-4A0F-859E-232BFF7C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397DA-5D71-4606-9991-3B4AE0BAF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CC2F96-BFC1-47FE-B430-FF6EAB19D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A9864F-9B0F-4F1C-A93A-59D21F8E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C035-B24E-47C1-94E7-77540C56B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3667D-4523-4336-A18C-C96DA6C7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78CC3-60F3-4CA6-8F0B-79BB5CDE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20C48-8892-4182-BB52-117AAB63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E7592-B616-4BAE-A8AB-9A26538A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CF314-415C-4054-9511-50D042DF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F868F8-229E-4242-9D19-F251ACE7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26796F-96EA-45F7-AEEA-D90AA654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EBDD93-973C-4D81-9A90-6B2EE885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8984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7FEF8F-0372-4204-8628-4DCCD4E6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7DB9A9-DAAC-4A7E-8BE2-A6B067A96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59CB-D049-489F-82D4-F4FC7BA4D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C4B5AB-998B-44F3-A946-847AF5CD1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7FBD4-F52D-4683-8E86-CE9A4B66C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F023D-D28C-4579-BE60-A1CD8A20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A2556-0056-442B-A434-8807759B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FF289-FFA8-4159-9248-6AB58F2F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00A39-78BE-4E4F-BBA2-E45EBC41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411F0-5016-42D1-A2D5-E1661F4C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98BE4-48E6-4375-98F1-77623B3A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A1ACB-02C5-4BF6-9F1B-08E552E5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D56EF-D905-4E0E-B4A0-8A5102F1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A254-2CD9-48E3-BFFD-7B03811CD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8984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1E73B-6C4F-4EE0-B199-3BF8E87D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9D67D-4E4A-4EE0-B9D8-904AFF459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9CABC-1DD0-4697-9DF8-117767103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00AE-97C4-4D8F-A2E5-EF86D212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902A-0F5F-4223-8A65-CC6A88CA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14DE-9763-4D75-83E2-F5E0B33F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3595-EEAF-4924-AD41-788351B6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6E5A-A40A-4E7A-9878-30213FDB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5B0E-2F22-48BC-8BA7-BF19D9F0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6072-F830-4FA0-BA28-86B42D5B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52B7-A345-447E-B980-87224BBD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03E7-40D3-47A9-B668-6C55F732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84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4622-5202-4A6D-8C6D-EA5C6B20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9842-848A-40D3-91DD-16227A66F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CF95-10BB-450C-8626-5E7F370DE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74169-47DF-4D8A-B8F1-431413F05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E6192-D4DE-45A2-BD17-E264E77A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7505D-9982-4EBF-A9A1-ED7902D9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97410-5B90-44AE-A57E-B51C9F9F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A03A1-FD5C-420C-8ED4-6E2DA1ED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3B3B-1273-4B81-A6DE-5A304F1D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12CF7-302C-4174-9669-D6AF6057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1522D-B4A4-4773-B220-76F20740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8F085-38DB-41E4-99B8-7978B71E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C188B-3E2D-4BF0-B117-0C9C1CB3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84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4C311-5955-4695-BAFE-FBB33510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F7928-EAA2-41ED-AC95-58144D6F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58232-B458-4719-86C7-470F91925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A04D1-7D17-404F-B3B1-6C87CBA23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448B4-91FD-4F52-8569-08C5850A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F37F2-29DC-49C2-9EF0-353C502C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1455-3796-47AE-A460-A49FED60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F6261-B735-4C56-9577-EC4D5D88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2980F-3B20-461E-9F6B-6534A550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8F609-4FE5-4574-8311-C55953A6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0719D-4531-4A27-B6BC-C5F15207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7318B-566A-4DF1-A325-B340D2F4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6409E-B76F-4945-A5C0-56894FF3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8984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783C6-F74B-4DC7-B539-4AA14F32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D5AD3-BAD6-4220-BF38-0DA6AE91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CC0D9-D0DB-492A-A105-48763332F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B4BF0-46F5-4AE4-9F96-E0A274FA4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2B68-5104-470F-81C3-8C35328D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BF857-E97B-4C0B-841D-A0CC6350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0FBA3-5663-41B0-8B77-3EABE247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F8200-6824-4E5E-9199-6741D187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D3D81-2954-4175-89A9-E3FFB85C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92142-99A0-454D-AD28-23707F14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C42C3-454F-4465-9787-F43960FE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EB71C-35B3-40EF-A024-B0A71F65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DB16D-332C-4073-AAC2-80859E78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84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6A89D-4753-4E19-AF8E-2FC8F4F5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1FBD3-2ABF-4764-ADF5-8F76D54A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68D1-85C0-4CFB-850F-1D61C4A0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9A2FE-891E-41D5-9FFD-FDBDB9AFF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6AEF6-367C-450E-929C-64BBBEF9C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E00EB-0E5C-4A5F-A0A5-5BB32F8A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DEB65-EF1C-400F-95FF-982195B6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430E9-9EB6-4B77-B488-03120E2B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8EF6C-1047-483E-859F-9D51D870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07F3A-2902-43CE-8106-297E7B9E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68914-A659-4FAC-AAAA-7F9F6325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61B43-4EE9-452B-BFCA-21D16A88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5B948-6347-4099-9D12-859FA9A1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F96F-95E8-477A-8EC1-602D3E75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8984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B27A2-F7DF-4500-A572-27D33D69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11AC3-8935-4ED4-97F5-63B71BA2A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FD0D3-5E33-4602-B8DD-FC1FC612F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02692-A1F2-4155-89F9-EED0D733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4A936-6801-45DF-9436-4E90FD4B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096B8-0D13-40C2-8E28-144E90A1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C6942-34FC-4AE2-888B-ECE678DE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BDF61-AC22-4AB5-BA59-FC975905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509F2-529C-415B-9624-DF2B3D42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C4C9F-5242-44AF-8132-4C654A96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8B85-E0F3-47CB-93C7-AC532C58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570BD-85CC-409D-A11C-8D645757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1F02B-178A-4F21-AE39-2129DF10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8984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475F3-947A-4C32-8B58-91EA6220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F9294-CD54-4776-94AC-F511405AA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0E608-814D-4E75-8068-DD82F422D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F2E05-6A01-44D7-92C2-F0DE5515D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CE441-3E4D-4970-9CCA-34861E35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7A49C-EE80-4E89-B2C0-F7A0A7C0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1685D-29EC-4D62-9604-BF535493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8C85A-34B3-4FE1-84CD-5F8A5E68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E7DB-040F-4298-886A-8BB49003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A543D-0D64-4F90-B663-DE598811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A5385-0667-4710-AF4D-362EAD4A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328D7-44A9-4C75-8ED7-E51D5D8C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95D24-E36B-4898-85B5-8F1EF3C9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8984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E0F9C-4993-43D8-87B9-D49E332C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71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8984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819F7-A21C-4D04-9FEE-5D0D19C54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271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8984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F3986-7A39-40DE-9AB1-EF6860ADE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A2BE7-C701-453A-87B3-C16C1BF79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E5280-01A6-4A08-8FFC-CC45011B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82209F-5C13-4F48-A583-98941090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umulus-bg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-343080">
              <a:spcBef>
                <a:spcPts val="1774"/>
              </a:spcBef>
              <a:buClr>
                <a:srgbClr val="f9c511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343080" indent="-343080">
              <a:spcBef>
                <a:spcPts val="1774"/>
              </a:spcBef>
              <a:buClr>
                <a:srgbClr val="71b6d5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343080" indent="-343080">
              <a:spcBef>
                <a:spcPts val="1774"/>
              </a:spcBef>
              <a:buClr>
                <a:srgbClr val="c3d69b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343080" indent="-343080">
              <a:spcBef>
                <a:spcPts val="1774"/>
              </a:spcBef>
              <a:buClr>
                <a:srgbClr val="71b6d5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343080" indent="-343080">
              <a:spcBef>
                <a:spcPts val="17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343080" indent="-343080">
              <a:spcBef>
                <a:spcPts val="17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834920" y="6440400"/>
            <a:ext cx="466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RIPE6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8944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58DF52-6049-416B-8186-651B2E40408B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8" descr="cumulus-bg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-343080">
              <a:spcBef>
                <a:spcPts val="1774"/>
              </a:spcBef>
              <a:buClr>
                <a:srgbClr val="f9c511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343080" indent="-343080">
              <a:spcBef>
                <a:spcPts val="1774"/>
              </a:spcBef>
              <a:buClr>
                <a:srgbClr val="71b6d5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343080" indent="-343080">
              <a:spcBef>
                <a:spcPts val="1774"/>
              </a:spcBef>
              <a:buClr>
                <a:srgbClr val="c3d69b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343080" indent="-343080">
              <a:spcBef>
                <a:spcPts val="1774"/>
              </a:spcBef>
              <a:buClr>
                <a:srgbClr val="71b6d5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343080" indent="-343080">
              <a:spcBef>
                <a:spcPts val="17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343080" indent="-343080">
              <a:spcBef>
                <a:spcPts val="17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8"/>
          </p:nvPr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9"/>
          </p:nvPr>
        </p:nvSpPr>
        <p:spPr>
          <a:xfrm>
            <a:off x="1834920" y="6440400"/>
            <a:ext cx="466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RIPE67 – Open Source W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30"/>
          </p:nvPr>
        </p:nvSpPr>
        <p:spPr>
          <a:xfrm>
            <a:off x="658944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D44223-02A7-49AF-8B3C-8983F121EB16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8" descr="cumulus-bg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-343080">
              <a:spcBef>
                <a:spcPts val="1774"/>
              </a:spcBef>
              <a:buClr>
                <a:srgbClr val="f9c511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343080" indent="-343080">
              <a:spcBef>
                <a:spcPts val="1774"/>
              </a:spcBef>
              <a:buClr>
                <a:srgbClr val="71b6d5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343080" indent="-343080">
              <a:spcBef>
                <a:spcPts val="1774"/>
              </a:spcBef>
              <a:buClr>
                <a:srgbClr val="c3d69b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343080" indent="-343080">
              <a:spcBef>
                <a:spcPts val="1774"/>
              </a:spcBef>
              <a:buClr>
                <a:srgbClr val="71b6d5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343080" indent="-343080">
              <a:spcBef>
                <a:spcPts val="17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343080" indent="-343080">
              <a:spcBef>
                <a:spcPts val="17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1834920" y="6440400"/>
            <a:ext cx="466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RIPE67 – Open Source W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658944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A7C639-5897-4987-9113-88431D865B73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cumulus-bg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umulus_PPT_Analyst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-343080">
              <a:spcBef>
                <a:spcPts val="1774"/>
              </a:spcBef>
              <a:buClr>
                <a:srgbClr val="f9c511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343080" indent="-343080">
              <a:spcBef>
                <a:spcPts val="1774"/>
              </a:spcBef>
              <a:buClr>
                <a:srgbClr val="71b6d5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343080" indent="-343080">
              <a:spcBef>
                <a:spcPts val="1774"/>
              </a:spcBef>
              <a:buClr>
                <a:srgbClr val="c3d69b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343080" indent="-343080">
              <a:spcBef>
                <a:spcPts val="1774"/>
              </a:spcBef>
              <a:buClr>
                <a:srgbClr val="71b6d5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343080" indent="-343080">
              <a:spcBef>
                <a:spcPts val="17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343080" indent="-343080">
              <a:spcBef>
                <a:spcPts val="17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1FB81A-445E-4C07-9823-6D45CD06F6F0}" type="datetime3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July 29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1834920" y="6440400"/>
            <a:ext cx="466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ontent presented under NDA t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8944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3D966B-1A56-4A71-AD97-B8F08E4BEC45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cumulus-bg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-343080">
              <a:spcBef>
                <a:spcPts val="1774"/>
              </a:spcBef>
              <a:buClr>
                <a:srgbClr val="f9c511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343080" indent="-343080">
              <a:spcBef>
                <a:spcPts val="1774"/>
              </a:spcBef>
              <a:buClr>
                <a:srgbClr val="71b6d5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343080" indent="-343080">
              <a:spcBef>
                <a:spcPts val="1774"/>
              </a:spcBef>
              <a:buClr>
                <a:srgbClr val="c3d69b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343080" indent="-343080">
              <a:spcBef>
                <a:spcPts val="1774"/>
              </a:spcBef>
              <a:buClr>
                <a:srgbClr val="71b6d5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343080" indent="-343080">
              <a:spcBef>
                <a:spcPts val="17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343080" indent="-343080">
              <a:spcBef>
                <a:spcPts val="17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1834920" y="6440400"/>
            <a:ext cx="466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RIPE67 – Open Source W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63372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26F145-D45A-440B-92CC-9F803745EDC7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cumulus-bg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-343080">
              <a:spcBef>
                <a:spcPts val="1774"/>
              </a:spcBef>
              <a:buClr>
                <a:srgbClr val="f9c511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343080" indent="-343080">
              <a:spcBef>
                <a:spcPts val="1774"/>
              </a:spcBef>
              <a:buClr>
                <a:srgbClr val="71b6d5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343080" indent="-343080">
              <a:spcBef>
                <a:spcPts val="1774"/>
              </a:spcBef>
              <a:buClr>
                <a:srgbClr val="c3d69b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343080" indent="-343080">
              <a:spcBef>
                <a:spcPts val="1774"/>
              </a:spcBef>
              <a:buClr>
                <a:srgbClr val="71b6d5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343080" indent="-343080">
              <a:spcBef>
                <a:spcPts val="17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343080" indent="-343080">
              <a:spcBef>
                <a:spcPts val="17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1834920" y="6440400"/>
            <a:ext cx="466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RIPE67 – Open Source W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8944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DDC4DE-FC5E-4B3A-BFA9-842BB170707D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cumulus-bg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-343080">
              <a:spcBef>
                <a:spcPts val="1774"/>
              </a:spcBef>
              <a:buClr>
                <a:srgbClr val="f9c511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343080" indent="-343080">
              <a:spcBef>
                <a:spcPts val="1774"/>
              </a:spcBef>
              <a:buClr>
                <a:srgbClr val="71b6d5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343080" indent="-343080">
              <a:spcBef>
                <a:spcPts val="1774"/>
              </a:spcBef>
              <a:buClr>
                <a:srgbClr val="c3d69b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343080" indent="-343080">
              <a:spcBef>
                <a:spcPts val="1774"/>
              </a:spcBef>
              <a:buClr>
                <a:srgbClr val="71b6d5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343080" indent="-343080">
              <a:spcBef>
                <a:spcPts val="17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343080" indent="-343080">
              <a:spcBef>
                <a:spcPts val="17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1834920" y="6440400"/>
            <a:ext cx="466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RIPE67 – Open Source W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8944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8F0B74-0668-482A-81CE-53A3FAEC4144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8" descr="cumulus-bg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-343080">
              <a:spcBef>
                <a:spcPts val="1774"/>
              </a:spcBef>
              <a:buClr>
                <a:srgbClr val="f9c511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343080" indent="-343080">
              <a:spcBef>
                <a:spcPts val="1774"/>
              </a:spcBef>
              <a:buClr>
                <a:srgbClr val="71b6d5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343080" indent="-343080">
              <a:spcBef>
                <a:spcPts val="1774"/>
              </a:spcBef>
              <a:buClr>
                <a:srgbClr val="c3d69b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343080" indent="-343080">
              <a:spcBef>
                <a:spcPts val="1774"/>
              </a:spcBef>
              <a:buClr>
                <a:srgbClr val="71b6d5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343080" indent="-343080">
              <a:spcBef>
                <a:spcPts val="17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343080" indent="-343080">
              <a:spcBef>
                <a:spcPts val="17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1834920" y="6440400"/>
            <a:ext cx="466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RIPE67 – Open Source W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58944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4336C5-5BDE-4800-9D49-465757B5242F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8" descr="cumulus-bg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-343080">
              <a:spcBef>
                <a:spcPts val="1774"/>
              </a:spcBef>
              <a:buClr>
                <a:srgbClr val="f9c511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343080" indent="-343080">
              <a:spcBef>
                <a:spcPts val="1774"/>
              </a:spcBef>
              <a:buClr>
                <a:srgbClr val="71b6d5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343080" indent="-343080">
              <a:spcBef>
                <a:spcPts val="1774"/>
              </a:spcBef>
              <a:buClr>
                <a:srgbClr val="c3d69b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343080" indent="-343080">
              <a:spcBef>
                <a:spcPts val="1774"/>
              </a:spcBef>
              <a:buClr>
                <a:srgbClr val="71b6d5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343080" indent="-343080">
              <a:spcBef>
                <a:spcPts val="17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343080" indent="-343080">
              <a:spcBef>
                <a:spcPts val="17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1834920" y="6440400"/>
            <a:ext cx="466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RIPE67 – Open Source W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58944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99E11E-C654-4CEE-A5C8-B87E4B118E36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8" descr="cumulus-bg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-343080">
              <a:spcBef>
                <a:spcPts val="1774"/>
              </a:spcBef>
              <a:buClr>
                <a:srgbClr val="f9c511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343080" indent="-343080">
              <a:spcBef>
                <a:spcPts val="1774"/>
              </a:spcBef>
              <a:buClr>
                <a:srgbClr val="71b6d5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343080" indent="-343080">
              <a:spcBef>
                <a:spcPts val="1774"/>
              </a:spcBef>
              <a:buClr>
                <a:srgbClr val="c3d69b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343080" indent="-343080">
              <a:spcBef>
                <a:spcPts val="1774"/>
              </a:spcBef>
              <a:buClr>
                <a:srgbClr val="71b6d5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343080" indent="-343080">
              <a:spcBef>
                <a:spcPts val="17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343080" indent="-343080">
              <a:spcBef>
                <a:spcPts val="17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1834920" y="6440400"/>
            <a:ext cx="466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RIPE67 – Open Source W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658944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3E0808-4E27-4A5E-BBB6-1E33FF11FF7F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8" descr="cumulus-bg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-343080">
              <a:spcBef>
                <a:spcPts val="1774"/>
              </a:spcBef>
              <a:buClr>
                <a:srgbClr val="f9c511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343080" indent="-343080">
              <a:spcBef>
                <a:spcPts val="1774"/>
              </a:spcBef>
              <a:buClr>
                <a:srgbClr val="71b6d5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343080" indent="-343080">
              <a:spcBef>
                <a:spcPts val="1774"/>
              </a:spcBef>
              <a:buClr>
                <a:srgbClr val="c3d69b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343080" indent="-343080">
              <a:spcBef>
                <a:spcPts val="1774"/>
              </a:spcBef>
              <a:buClr>
                <a:srgbClr val="71b6d5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343080" indent="-343080">
              <a:spcBef>
                <a:spcPts val="17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343080" indent="-343080">
              <a:spcBef>
                <a:spcPts val="17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1834920" y="6440400"/>
            <a:ext cx="466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RIPE67 – Open Source W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658944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270C6C-77AB-42EB-9E49-75C31C1AA16E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github.com/vincentbernat/lldpd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09720" y="3205080"/>
            <a:ext cx="732456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Arial"/>
                <a:ea typeface="Arial"/>
              </a:rPr>
              <a:t>Over coming traditional network limitations with open sour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Box 1"/>
          <p:cNvSpPr/>
          <p:nvPr/>
        </p:nvSpPr>
        <p:spPr>
          <a:xfrm>
            <a:off x="-681120" y="30877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457200" y="92088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raditional tools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TCL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 – limited adoption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XSLT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 – single vendor, mostly supplied tool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Except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 – Rancid base, very popular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DevOps” tools have major adoption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Cfengine, Puppet, Chef, Ansible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Salt, Trigger, … literally new tools every quarter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Large diverse communities (conferences, books, professional services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Nirvana = same tool chain for compute AND network environment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NetDevOps” re-born again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NetDev abstraction layer in puppet, chef, &amp; ansible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Possible “SDN” pill which CCIE’s can appreciate?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24" name="Date Placeholder 3"/>
          <p:cNvSpPr/>
          <p:nvPr/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4"/>
          <p:cNvSpPr/>
          <p:nvPr/>
        </p:nvSpPr>
        <p:spPr>
          <a:xfrm>
            <a:off x="658980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16211A-0235-499F-8ADC-C732EE8DCAD6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8 Manag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itor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26960" y="10494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Traditional tools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625320" indent="-282240">
              <a:spcBef>
                <a:spcPts val="499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NMP – Where can I get a copy of the MIB?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-282240">
              <a:spcBef>
                <a:spcPts val="499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MRTG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-282240">
              <a:spcBef>
                <a:spcPts val="499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acti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Newer tools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 (again, compute folks learned long ago SNMP was a fail)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625320" indent="-282240">
              <a:spcBef>
                <a:spcPts val="499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ollectD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-282240">
              <a:spcBef>
                <a:spcPts val="499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Diamond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-282240">
              <a:spcBef>
                <a:spcPts val="499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Graphite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-282240">
              <a:spcBef>
                <a:spcPts val="499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nsu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262626"/>
                </a:solidFill>
                <a:latin typeface="Arial"/>
              </a:rPr>
              <a:t>Deploy agents directly on the network devices, pushing stats and state, instead of polling</a:t>
            </a:r>
            <a:endParaRPr b="1" lang="en-US" sz="2600" spc="-1" strike="noStrike">
              <a:solidFill>
                <a:srgbClr val="262626"/>
              </a:solidFill>
              <a:latin typeface="Arial"/>
            </a:endParaRPr>
          </a:p>
          <a:p>
            <a:pPr lvl="1" marL="625320" indent="-282240">
              <a:spcBef>
                <a:spcPts val="649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29" name="Date Placeholder 1"/>
          <p:cNvSpPr/>
          <p:nvPr/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658980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7E3D32-8F2A-4BBA-9DBE-127C73102112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mulus Networks contribu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123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ONIE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625320" indent="-282240">
              <a:spcBef>
                <a:spcPts val="499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Open Source boot loader for network device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-282240">
              <a:spcBef>
                <a:spcPts val="499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262626"/>
                </a:solidFill>
                <a:latin typeface="Arial"/>
              </a:rPr>
              <a:t>Prescriptive Topology Daemon</a:t>
            </a:r>
            <a:endParaRPr b="1" lang="en-US" sz="2600" spc="-1" strike="noStrike">
              <a:solidFill>
                <a:srgbClr val="262626"/>
              </a:solidFill>
              <a:latin typeface="Arial"/>
            </a:endParaRPr>
          </a:p>
          <a:p>
            <a:pPr lvl="1" marL="625320" indent="-282240">
              <a:spcBef>
                <a:spcPts val="499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Data centre cable verification using LLDP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-282240">
              <a:spcBef>
                <a:spcPts val="499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262626"/>
                </a:solidFill>
                <a:latin typeface="Arial"/>
              </a:rPr>
              <a:t>Quagga</a:t>
            </a:r>
            <a:endParaRPr b="1" lang="en-US" sz="2600" spc="-1" strike="noStrike">
              <a:solidFill>
                <a:srgbClr val="262626"/>
              </a:solidFill>
              <a:latin typeface="Arial"/>
            </a:endParaRPr>
          </a:p>
          <a:p>
            <a:pPr lvl="1" marL="625320" indent="-282240">
              <a:spcBef>
                <a:spcPts val="499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Actively submitting patches, major bugfixe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-282240">
              <a:spcBef>
                <a:spcPts val="499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262626"/>
                </a:solidFill>
                <a:latin typeface="Arial"/>
              </a:rPr>
              <a:t>MSTP</a:t>
            </a:r>
            <a:endParaRPr b="1" lang="en-US" sz="2600" spc="-1" strike="noStrike">
              <a:solidFill>
                <a:srgbClr val="262626"/>
              </a:solidFill>
              <a:latin typeface="Arial"/>
            </a:endParaRPr>
          </a:p>
          <a:p>
            <a:pPr lvl="1" marL="625320" indent="-282240">
              <a:spcBef>
                <a:spcPts val="499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Bridge assurance, various bugfixe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-282240">
              <a:spcBef>
                <a:spcPts val="499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3" name="Date Placeholder 1"/>
          <p:cNvSpPr/>
          <p:nvPr/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658980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3121D2-7394-4EE7-8077-13D4EB8E84D3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457200" y="1084320"/>
            <a:ext cx="5448240" cy="51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Problem: 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  <a:p>
            <a:pPr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witches need the equivalent of a boot loader to allow disaggregation of hardware from operating system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Solution: ONIE, installer environment to address open hardware ecosystem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  <a:p>
            <a:pPr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A small, Linux based operating system that comes pre-installed on bare metal switches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  <a:p>
            <a:pPr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Provides an environment for network OS installers (Network operating system neutral)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IE - Open Network Install Environ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Date Placeholder 6"/>
          <p:cNvSpPr/>
          <p:nvPr/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8"/>
          <p:cNvSpPr/>
          <p:nvPr/>
        </p:nvSpPr>
        <p:spPr>
          <a:xfrm>
            <a:off x="658980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BF1CAD-D00D-4024-90EB-C0FF7135982C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ounded Rectangle 11"/>
          <p:cNvSpPr/>
          <p:nvPr/>
        </p:nvSpPr>
        <p:spPr>
          <a:xfrm>
            <a:off x="6521400" y="5345280"/>
            <a:ext cx="2183040" cy="344160"/>
          </a:xfrm>
          <a:prstGeom prst="roundRect">
            <a:avLst>
              <a:gd name="adj" fmla="val 16667"/>
            </a:avLst>
          </a:prstGeom>
          <a:solidFill>
            <a:srgbClr val="4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re metal 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ounded Rectangle 12"/>
          <p:cNvSpPr/>
          <p:nvPr/>
        </p:nvSpPr>
        <p:spPr>
          <a:xfrm>
            <a:off x="6586560" y="4486320"/>
            <a:ext cx="2052720" cy="34272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perating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ounded Rectangle 13"/>
          <p:cNvSpPr/>
          <p:nvPr/>
        </p:nvSpPr>
        <p:spPr>
          <a:xfrm>
            <a:off x="6586560" y="3935520"/>
            <a:ext cx="595440" cy="412560"/>
          </a:xfrm>
          <a:prstGeom prst="roundRect">
            <a:avLst>
              <a:gd name="adj" fmla="val 16667"/>
            </a:avLst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ounded Rectangle 14"/>
          <p:cNvSpPr/>
          <p:nvPr/>
        </p:nvSpPr>
        <p:spPr>
          <a:xfrm>
            <a:off x="7315200" y="3935520"/>
            <a:ext cx="595440" cy="412560"/>
          </a:xfrm>
          <a:prstGeom prst="roundRect">
            <a:avLst>
              <a:gd name="adj" fmla="val 16667"/>
            </a:avLst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ounded Rectangle 15"/>
          <p:cNvSpPr/>
          <p:nvPr/>
        </p:nvSpPr>
        <p:spPr>
          <a:xfrm>
            <a:off x="8042400" y="3935520"/>
            <a:ext cx="596880" cy="41256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ounded Rectangle 16"/>
          <p:cNvSpPr/>
          <p:nvPr/>
        </p:nvSpPr>
        <p:spPr>
          <a:xfrm>
            <a:off x="6454800" y="3797280"/>
            <a:ext cx="2316240" cy="1101600"/>
          </a:xfrm>
          <a:prstGeom prst="roundRect">
            <a:avLst>
              <a:gd name="adj" fmla="val 5440"/>
            </a:avLst>
          </a:prstGeom>
          <a:noFill/>
          <a:ln w="2556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ounded Rectangle 17"/>
          <p:cNvSpPr/>
          <p:nvPr/>
        </p:nvSpPr>
        <p:spPr>
          <a:xfrm>
            <a:off x="7977240" y="3867120"/>
            <a:ext cx="727200" cy="549360"/>
          </a:xfrm>
          <a:prstGeom prst="roundRect">
            <a:avLst>
              <a:gd name="adj" fmla="val 7741"/>
            </a:avLst>
          </a:prstGeom>
          <a:noFill/>
          <a:ln w="2556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ounded Rectangle 18"/>
          <p:cNvSpPr/>
          <p:nvPr/>
        </p:nvSpPr>
        <p:spPr>
          <a:xfrm>
            <a:off x="6454800" y="5002200"/>
            <a:ext cx="2316240" cy="725400"/>
          </a:xfrm>
          <a:prstGeom prst="roundRect">
            <a:avLst>
              <a:gd name="adj" fmla="val 7741"/>
            </a:avLst>
          </a:prstGeom>
          <a:noFill/>
          <a:ln w="2556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ounded Rectangle 19"/>
          <p:cNvSpPr/>
          <p:nvPr/>
        </p:nvSpPr>
        <p:spPr>
          <a:xfrm>
            <a:off x="6388200" y="3728880"/>
            <a:ext cx="2449440" cy="2124360"/>
          </a:xfrm>
          <a:prstGeom prst="roundRect">
            <a:avLst>
              <a:gd name="adj" fmla="val 5440"/>
            </a:avLst>
          </a:prstGeom>
          <a:noFill/>
          <a:ln w="2556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ounded Rectangle 20"/>
          <p:cNvSpPr/>
          <p:nvPr/>
        </p:nvSpPr>
        <p:spPr>
          <a:xfrm>
            <a:off x="6521400" y="5032440"/>
            <a:ext cx="2183040" cy="279360"/>
          </a:xfrm>
          <a:prstGeom prst="roundRect">
            <a:avLst>
              <a:gd name="adj" fmla="val 16667"/>
            </a:avLst>
          </a:prstGeom>
          <a:solidFill>
            <a:srgbClr val="e5fbc7"/>
          </a:solidFill>
          <a:ln w="9360">
            <a:solidFill>
              <a:srgbClr val="78c3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ounded Rectangle 22"/>
          <p:cNvSpPr/>
          <p:nvPr/>
        </p:nvSpPr>
        <p:spPr>
          <a:xfrm>
            <a:off x="6521400" y="2773440"/>
            <a:ext cx="2183040" cy="342720"/>
          </a:xfrm>
          <a:prstGeom prst="roundRect">
            <a:avLst>
              <a:gd name="adj" fmla="val 16667"/>
            </a:avLst>
          </a:prstGeom>
          <a:solidFill>
            <a:srgbClr val="4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re metal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ounded Rectangle 23"/>
          <p:cNvSpPr/>
          <p:nvPr/>
        </p:nvSpPr>
        <p:spPr>
          <a:xfrm>
            <a:off x="6586560" y="1913040"/>
            <a:ext cx="2052720" cy="34452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perating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ounded Rectangle 24"/>
          <p:cNvSpPr/>
          <p:nvPr/>
        </p:nvSpPr>
        <p:spPr>
          <a:xfrm>
            <a:off x="6586560" y="1362240"/>
            <a:ext cx="595440" cy="412560"/>
          </a:xfrm>
          <a:prstGeom prst="roundRect">
            <a:avLst>
              <a:gd name="adj" fmla="val 16667"/>
            </a:avLst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ounded Rectangle 25"/>
          <p:cNvSpPr/>
          <p:nvPr/>
        </p:nvSpPr>
        <p:spPr>
          <a:xfrm>
            <a:off x="7315200" y="1362240"/>
            <a:ext cx="595440" cy="412560"/>
          </a:xfrm>
          <a:prstGeom prst="roundRect">
            <a:avLst>
              <a:gd name="adj" fmla="val 16667"/>
            </a:avLst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ounded Rectangle 26"/>
          <p:cNvSpPr/>
          <p:nvPr/>
        </p:nvSpPr>
        <p:spPr>
          <a:xfrm>
            <a:off x="8042400" y="1362240"/>
            <a:ext cx="596880" cy="41256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ounded Rectangle 27"/>
          <p:cNvSpPr/>
          <p:nvPr/>
        </p:nvSpPr>
        <p:spPr>
          <a:xfrm>
            <a:off x="6454800" y="1225440"/>
            <a:ext cx="2316240" cy="1100160"/>
          </a:xfrm>
          <a:prstGeom prst="roundRect">
            <a:avLst>
              <a:gd name="adj" fmla="val 5440"/>
            </a:avLst>
          </a:prstGeom>
          <a:noFill/>
          <a:ln w="2556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ounded Rectangle 28"/>
          <p:cNvSpPr/>
          <p:nvPr/>
        </p:nvSpPr>
        <p:spPr>
          <a:xfrm>
            <a:off x="7977240" y="1293840"/>
            <a:ext cx="727200" cy="550800"/>
          </a:xfrm>
          <a:prstGeom prst="roundRect">
            <a:avLst>
              <a:gd name="adj" fmla="val 7741"/>
            </a:avLst>
          </a:prstGeom>
          <a:noFill/>
          <a:ln w="2556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ounded Rectangle 29"/>
          <p:cNvSpPr/>
          <p:nvPr/>
        </p:nvSpPr>
        <p:spPr>
          <a:xfrm>
            <a:off x="6454800" y="2428920"/>
            <a:ext cx="2316240" cy="727200"/>
          </a:xfrm>
          <a:prstGeom prst="roundRect">
            <a:avLst>
              <a:gd name="adj" fmla="val 7741"/>
            </a:avLst>
          </a:prstGeom>
          <a:noFill/>
          <a:ln w="2556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ounded Rectangle 30"/>
          <p:cNvSpPr/>
          <p:nvPr/>
        </p:nvSpPr>
        <p:spPr>
          <a:xfrm>
            <a:off x="6388200" y="1155600"/>
            <a:ext cx="2449440" cy="2124000"/>
          </a:xfrm>
          <a:prstGeom prst="roundRect">
            <a:avLst>
              <a:gd name="adj" fmla="val 5440"/>
            </a:avLst>
          </a:prstGeom>
          <a:noFill/>
          <a:ln w="2556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ounded Rectangle 31"/>
          <p:cNvSpPr/>
          <p:nvPr/>
        </p:nvSpPr>
        <p:spPr>
          <a:xfrm>
            <a:off x="6521400" y="2459160"/>
            <a:ext cx="2183040" cy="279360"/>
          </a:xfrm>
          <a:prstGeom prst="roundRect">
            <a:avLst>
              <a:gd name="adj" fmla="val 16667"/>
            </a:avLst>
          </a:prstGeom>
          <a:solidFill>
            <a:srgbClr val="e5fbc7"/>
          </a:solidFill>
          <a:ln w="9360">
            <a:solidFill>
              <a:srgbClr val="78c3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2"/>
          <p:cNvSpPr/>
          <p:nvPr/>
        </p:nvSpPr>
        <p:spPr>
          <a:xfrm>
            <a:off x="7188120" y="7873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33"/>
          <p:cNvSpPr/>
          <p:nvPr/>
        </p:nvSpPr>
        <p:spPr>
          <a:xfrm>
            <a:off x="7207200" y="33987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11" descr="2images.jpg"/>
          <p:cNvPicPr/>
          <p:nvPr/>
        </p:nvPicPr>
        <p:blipFill>
          <a:blip r:embed="rId1"/>
          <a:stretch/>
        </p:blipFill>
        <p:spPr>
          <a:xfrm>
            <a:off x="0" y="0"/>
            <a:ext cx="1422360" cy="142236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2" descr="images.jpg"/>
          <p:cNvPicPr/>
          <p:nvPr/>
        </p:nvPicPr>
        <p:blipFill>
          <a:blip r:embed="rId2"/>
          <a:stretch/>
        </p:blipFill>
        <p:spPr>
          <a:xfrm>
            <a:off x="8039160" y="-22320"/>
            <a:ext cx="129528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50" descr="server-system-r1208gz.jpg"/>
          <p:cNvPicPr/>
          <p:nvPr/>
        </p:nvPicPr>
        <p:blipFill>
          <a:blip r:embed="rId1"/>
          <a:stretch/>
        </p:blipFill>
        <p:spPr>
          <a:xfrm>
            <a:off x="7029360" y="4948200"/>
            <a:ext cx="1962360" cy="98100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IE - Open Network Install Environ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271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Zero-touch install of operating system on industry-standard gear running the Open Network Install Environment (ONIE)</a:t>
            </a: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Industry standard gear comes with ONIE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ONIE provides the installer environment for auto-installation of network operating system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ONIE discovers the operating system through USB, DHCP,..., and Cumulus Linux gets downloaded and installed on the system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566" name="Picture 4" descr=""/>
          <p:cNvPicPr/>
          <p:nvPr/>
        </p:nvPicPr>
        <p:blipFill>
          <a:blip r:embed="rId2"/>
          <a:stretch/>
        </p:blipFill>
        <p:spPr>
          <a:xfrm>
            <a:off x="744480" y="4997520"/>
            <a:ext cx="3000600" cy="9316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2" descr="Onie-logo-green.png"/>
          <p:cNvPicPr/>
          <p:nvPr/>
        </p:nvPicPr>
        <p:blipFill>
          <a:blip r:embed="rId3"/>
          <a:stretch/>
        </p:blipFill>
        <p:spPr>
          <a:xfrm>
            <a:off x="1865160" y="4471920"/>
            <a:ext cx="1879920" cy="701640"/>
          </a:xfrm>
          <a:prstGeom prst="rect">
            <a:avLst/>
          </a:prstGeom>
          <a:ln w="0">
            <a:noFill/>
          </a:ln>
        </p:spPr>
      </p:pic>
      <p:cxnSp>
        <p:nvCxnSpPr>
          <p:cNvPr id="568" name="Straight Arrow Connector 32"/>
          <p:cNvCxnSpPr/>
          <p:nvPr/>
        </p:nvCxnSpPr>
        <p:spPr>
          <a:xfrm>
            <a:off x="3930120" y="5047920"/>
            <a:ext cx="2939400" cy="337320"/>
          </a:xfrm>
          <a:prstGeom prst="straightConnector1">
            <a:avLst/>
          </a:prstGeom>
          <a:ln w="38160">
            <a:solidFill>
              <a:srgbClr val="78c30e"/>
            </a:solidFill>
            <a:miter/>
            <a:tailEnd len="med" type="triangle" w="med"/>
          </a:ln>
        </p:spPr>
      </p:cxnSp>
      <p:sp>
        <p:nvSpPr>
          <p:cNvPr id="569" name="TextBox 44"/>
          <p:cNvSpPr/>
          <p:nvPr/>
        </p:nvSpPr>
        <p:spPr>
          <a:xfrm>
            <a:off x="4444560" y="4510080"/>
            <a:ext cx="3350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 Discover installer on management interfa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B, URL from DHCP, URL from DNS-SD,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0" name="Straight Arrow Connector 53"/>
          <p:cNvCxnSpPr/>
          <p:nvPr/>
        </p:nvCxnSpPr>
        <p:spPr>
          <a:xfrm flipV="1">
            <a:off x="3930120" y="5574600"/>
            <a:ext cx="2939400" cy="330840"/>
          </a:xfrm>
          <a:prstGeom prst="straightConnector1">
            <a:avLst/>
          </a:prstGeom>
          <a:ln w="38160">
            <a:solidFill>
              <a:srgbClr val="78c30e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71" name="TextBox 54"/>
          <p:cNvSpPr/>
          <p:nvPr/>
        </p:nvSpPr>
        <p:spPr>
          <a:xfrm>
            <a:off x="4474080" y="5872320"/>
            <a:ext cx="27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 Download, run installer, and re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Vertical Scroll 1"/>
          <p:cNvSpPr/>
          <p:nvPr/>
        </p:nvSpPr>
        <p:spPr>
          <a:xfrm>
            <a:off x="7932600" y="4829040"/>
            <a:ext cx="1059120" cy="405000"/>
          </a:xfrm>
          <a:prstGeom prst="verticalScroll">
            <a:avLst>
              <a:gd name="adj" fmla="val 12500"/>
            </a:avLst>
          </a:prstGeom>
          <a:solidFill>
            <a:srgbClr val="ffeed0"/>
          </a:solidFill>
          <a:ln w="9360">
            <a:solidFill>
              <a:srgbClr val="ffac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ie-instal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11" descr="2images.jpg"/>
          <p:cNvPicPr/>
          <p:nvPr/>
        </p:nvPicPr>
        <p:blipFill>
          <a:blip r:embed="rId4"/>
          <a:stretch/>
        </p:blipFill>
        <p:spPr>
          <a:xfrm>
            <a:off x="0" y="0"/>
            <a:ext cx="1422360" cy="142236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2" descr="images.jpg"/>
          <p:cNvPicPr/>
          <p:nvPr/>
        </p:nvPicPr>
        <p:blipFill>
          <a:blip r:embed="rId5"/>
          <a:stretch/>
        </p:blipFill>
        <p:spPr>
          <a:xfrm>
            <a:off x="8039160" y="-22320"/>
            <a:ext cx="1295280" cy="1293840"/>
          </a:xfrm>
          <a:prstGeom prst="rect">
            <a:avLst/>
          </a:prstGeom>
          <a:ln w="0">
            <a:noFill/>
          </a:ln>
        </p:spPr>
      </p:pic>
      <p:sp>
        <p:nvSpPr>
          <p:cNvPr id="575" name="Date Placeholder 2"/>
          <p:cNvSpPr/>
          <p:nvPr/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lide Number Placeholder 4"/>
          <p:cNvSpPr/>
          <p:nvPr/>
        </p:nvSpPr>
        <p:spPr>
          <a:xfrm>
            <a:off x="658980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480FBB-9333-4718-A916-263EC4A927D5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ounded Rectangle 34"/>
          <p:cNvSpPr/>
          <p:nvPr/>
        </p:nvSpPr>
        <p:spPr>
          <a:xfrm>
            <a:off x="7413480" y="2147760"/>
            <a:ext cx="1506600" cy="3395880"/>
          </a:xfrm>
          <a:custGeom>
            <a:avLst/>
            <a:gdLst>
              <a:gd name="textAreaLeft" fmla="*/ 73440 w 1506600"/>
              <a:gd name="textAreaRight" fmla="*/ 1433160 w 1506600"/>
              <a:gd name="textAreaTop" fmla="*/ 73440 h 3395880"/>
              <a:gd name="textAreaBottom" fmla="*/ 3322440 h 3395880"/>
            </a:gdLst>
            <a:ahLst/>
            <a:rect l="textAreaLeft" t="textAreaTop" r="textAreaRight" b="textAreaBottom"/>
            <a:pathLst>
              <a:path w="21600" h="48680">
                <a:moveTo>
                  <a:pt x="3600" y="0"/>
                </a:moveTo>
                <a:arcTo wR="3600" hR="3600" stAng="16200000" swAng="-5400000"/>
                <a:lnTo>
                  <a:pt x="0" y="45080"/>
                </a:lnTo>
                <a:arcTo wR="3600" hR="3600" stAng="10800000" swAng="-5400000"/>
                <a:lnTo>
                  <a:pt x="18000" y="486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dff8a"/>
              </a:gs>
              <a:gs pos="100000">
                <a:srgbClr val="7dde00">
                  <a:alpha val="64313"/>
                </a:srgbClr>
              </a:gs>
            </a:gsLst>
            <a:lin ang="5400000"/>
          </a:gradFill>
          <a:ln w="9360">
            <a:solidFill>
              <a:srgbClr val="76c30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Content Placeholder 5"/>
          <p:cNvSpPr/>
          <p:nvPr/>
        </p:nvSpPr>
        <p:spPr>
          <a:xfrm>
            <a:off x="7031160" y="1652760"/>
            <a:ext cx="2112840" cy="40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Geneva"/>
              </a:rPr>
              <a:t>Topology grap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2240">
              <a:lnSpc>
                <a:spcPct val="80000"/>
              </a:lnSpc>
              <a:spcBef>
                <a:spcPts val="374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2240">
              <a:lnSpc>
                <a:spcPct val="80000"/>
              </a:lnSpc>
              <a:spcBef>
                <a:spcPts val="374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Geneva"/>
              </a:rPr>
              <a:t>Graph G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6664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Arial"/>
                <a:ea typeface="Geneva"/>
              </a:rPr>
              <a:t>S1:p1 – M1:p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56664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Arial"/>
                <a:ea typeface="Geneva"/>
              </a:rPr>
              <a:t>S1:p2 – M2:p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56664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Arial"/>
                <a:ea typeface="Geneva"/>
              </a:rPr>
              <a:t>S1:p3 – M3:p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56664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Arial"/>
                <a:ea typeface="Geneva"/>
              </a:rPr>
              <a:t>S1:p4 – M4:p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56664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Arial"/>
                <a:ea typeface="Geneva"/>
              </a:rPr>
              <a:t>S2:p1 – M1:p4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56664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Arial"/>
                <a:ea typeface="Geneva"/>
              </a:rPr>
              <a:t>S2:p2 – M2:p4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56664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Arial"/>
                <a:ea typeface="Geneva"/>
              </a:rPr>
              <a:t>S2:p3 – M3:p4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56664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Arial"/>
                <a:ea typeface="Geneva"/>
              </a:rPr>
              <a:t>S2:p4 – M4:p4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56664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Arial"/>
                <a:ea typeface="Geneva"/>
              </a:rPr>
              <a:t>M1:p1 – T1:p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56664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Arial"/>
                <a:ea typeface="Geneva"/>
              </a:rPr>
              <a:t>M1:p2 – T2:p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56664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Arial"/>
                <a:ea typeface="Geneva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56664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Arial"/>
                <a:ea typeface="Geneva"/>
              </a:rPr>
              <a:t>M4:p2 – T4:p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382680"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ae00"/>
                </a:solidFill>
                <a:latin typeface="Arial"/>
                <a:ea typeface="Genev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criptive Topology Modu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774"/>
              </a:spcBef>
              <a:buClr>
                <a:srgbClr val="26262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262626"/>
                </a:solidFill>
                <a:latin typeface="Arial"/>
              </a:rPr>
              <a:t>Goal: Operational simplicity, reduced Operator errors</a:t>
            </a:r>
            <a:endParaRPr b="1" lang="en-US" sz="2100" spc="-1" strike="noStrike">
              <a:solidFill>
                <a:srgbClr val="262626"/>
              </a:solidFill>
              <a:latin typeface="Arial"/>
            </a:endParaRPr>
          </a:p>
          <a:p>
            <a:pPr lvl="1" marL="282600">
              <a:lnSpc>
                <a:spcPct val="80000"/>
              </a:lnSpc>
              <a:spcBef>
                <a:spcPts val="400"/>
              </a:spcBef>
              <a:buClr>
                <a:srgbClr val="f9c511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Verify connectivity per cabling plan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282600">
              <a:lnSpc>
                <a:spcPct val="80000"/>
              </a:lnSpc>
              <a:spcBef>
                <a:spcPts val="400"/>
              </a:spcBef>
              <a:buClr>
                <a:srgbClr val="f9c511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Bring up routing adjacency only if cabling test passe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282600">
              <a:lnSpc>
                <a:spcPct val="80000"/>
              </a:lnSpc>
              <a:spcBef>
                <a:spcPts val="400"/>
              </a:spcBef>
              <a:buClr>
                <a:srgbClr val="f9c511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lective actions on link up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282600">
              <a:lnSpc>
                <a:spcPct val="80000"/>
              </a:lnSpc>
              <a:spcBef>
                <a:spcPts val="451"/>
              </a:spcBef>
              <a:buClr>
                <a:srgbClr val="f9c511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74"/>
              </a:spcBef>
              <a:buClr>
                <a:srgbClr val="26262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262626"/>
                </a:solidFill>
                <a:latin typeface="Arial"/>
              </a:rPr>
              <a:t>How? Network topology specified via DOT language and distributed to all nodes</a:t>
            </a:r>
            <a:endParaRPr b="1" lang="en-US" sz="2100" spc="-1" strike="noStrike">
              <a:solidFill>
                <a:srgbClr val="262626"/>
              </a:solidFill>
              <a:latin typeface="Arial"/>
            </a:endParaRPr>
          </a:p>
          <a:p>
            <a:pPr lvl="1" marL="282600">
              <a:lnSpc>
                <a:spcPct val="80000"/>
              </a:lnSpc>
              <a:spcBef>
                <a:spcPts val="400"/>
              </a:spcBef>
              <a:buClr>
                <a:srgbClr val="f9c511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Each node determines its relevant information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282600">
              <a:lnSpc>
                <a:spcPct val="80000"/>
              </a:lnSpc>
              <a:spcBef>
                <a:spcPts val="400"/>
              </a:spcBef>
              <a:buClr>
                <a:srgbClr val="f9c511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Use LLDP to verify connectivity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282600">
              <a:lnSpc>
                <a:spcPct val="80000"/>
              </a:lnSpc>
              <a:spcBef>
                <a:spcPts val="400"/>
              </a:spcBef>
              <a:buClr>
                <a:srgbClr val="f9c511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Logs error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282600">
              <a:lnSpc>
                <a:spcPct val="80000"/>
              </a:lnSpc>
              <a:spcBef>
                <a:spcPts val="400"/>
              </a:spcBef>
              <a:buClr>
                <a:srgbClr val="f9c511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Daemon executes a set of scripts on topology pass and a different set of scripts on topology fai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Content Placeholder 7"/>
          <p:cNvSpPr/>
          <p:nvPr/>
        </p:nvSpPr>
        <p:spPr>
          <a:xfrm>
            <a:off x="483876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eneva"/>
              </a:rPr>
              <a:t>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Group 1"/>
          <p:cNvGrpSpPr/>
          <p:nvPr/>
        </p:nvGrpSpPr>
        <p:grpSpPr>
          <a:xfrm>
            <a:off x="4838760" y="2395440"/>
            <a:ext cx="2360520" cy="1905120"/>
            <a:chOff x="4838760" y="2395440"/>
            <a:chExt cx="2360520" cy="1905120"/>
          </a:xfrm>
        </p:grpSpPr>
        <p:sp>
          <p:nvSpPr>
            <p:cNvPr id="583" name="Rectangle 6"/>
            <p:cNvSpPr/>
            <p:nvPr/>
          </p:nvSpPr>
          <p:spPr>
            <a:xfrm>
              <a:off x="6024600" y="2395440"/>
              <a:ext cx="357120" cy="379440"/>
            </a:xfrm>
            <a:prstGeom prst="rect">
              <a:avLst/>
            </a:prstGeom>
            <a:solidFill>
              <a:srgbClr val="78c30e"/>
            </a:solidFill>
            <a:ln w="25560">
              <a:solidFill>
                <a:srgbClr val="568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7"/>
            <p:cNvSpPr/>
            <p:nvPr/>
          </p:nvSpPr>
          <p:spPr>
            <a:xfrm>
              <a:off x="5554800" y="2404800"/>
              <a:ext cx="357120" cy="377640"/>
            </a:xfrm>
            <a:prstGeom prst="rect">
              <a:avLst/>
            </a:prstGeom>
            <a:solidFill>
              <a:srgbClr val="78c30e"/>
            </a:solidFill>
            <a:ln w="25560">
              <a:solidFill>
                <a:srgbClr val="568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8"/>
            <p:cNvSpPr/>
            <p:nvPr/>
          </p:nvSpPr>
          <p:spPr>
            <a:xfrm>
              <a:off x="5553000" y="3254400"/>
              <a:ext cx="357120" cy="379440"/>
            </a:xfrm>
            <a:prstGeom prst="rect">
              <a:avLst/>
            </a:prstGeom>
            <a:solidFill>
              <a:srgbClr val="78c30e"/>
            </a:solidFill>
            <a:ln w="25560">
              <a:solidFill>
                <a:srgbClr val="568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9"/>
            <p:cNvSpPr/>
            <p:nvPr/>
          </p:nvSpPr>
          <p:spPr>
            <a:xfrm>
              <a:off x="4838760" y="3274920"/>
              <a:ext cx="357120" cy="377640"/>
            </a:xfrm>
            <a:prstGeom prst="rect">
              <a:avLst/>
            </a:prstGeom>
            <a:solidFill>
              <a:srgbClr val="78c30e"/>
            </a:solidFill>
            <a:ln w="25560">
              <a:solidFill>
                <a:srgbClr val="568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10"/>
            <p:cNvSpPr/>
            <p:nvPr/>
          </p:nvSpPr>
          <p:spPr>
            <a:xfrm>
              <a:off x="5559480" y="3902040"/>
              <a:ext cx="357120" cy="379440"/>
            </a:xfrm>
            <a:prstGeom prst="rect">
              <a:avLst/>
            </a:prstGeom>
            <a:solidFill>
              <a:srgbClr val="78c30e"/>
            </a:solidFill>
            <a:ln w="25560">
              <a:solidFill>
                <a:srgbClr val="568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T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11"/>
            <p:cNvSpPr/>
            <p:nvPr/>
          </p:nvSpPr>
          <p:spPr>
            <a:xfrm>
              <a:off x="4844880" y="3921120"/>
              <a:ext cx="357120" cy="379440"/>
            </a:xfrm>
            <a:prstGeom prst="rect">
              <a:avLst/>
            </a:prstGeom>
            <a:solidFill>
              <a:srgbClr val="78c30e"/>
            </a:solidFill>
            <a:ln w="25560">
              <a:solidFill>
                <a:srgbClr val="568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T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Straight Connector 12"/>
            <p:cNvSpPr/>
            <p:nvPr/>
          </p:nvSpPr>
          <p:spPr>
            <a:xfrm>
              <a:off x="5016240" y="3652920"/>
              <a:ext cx="7920" cy="26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Straight Connector 13"/>
            <p:cNvSpPr/>
            <p:nvPr/>
          </p:nvSpPr>
          <p:spPr>
            <a:xfrm>
              <a:off x="5016240" y="3652920"/>
              <a:ext cx="7207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Straight Connector 14"/>
            <p:cNvSpPr/>
            <p:nvPr/>
          </p:nvSpPr>
          <p:spPr>
            <a:xfrm>
              <a:off x="5730840" y="3633840"/>
              <a:ext cx="6120" cy="26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Straight Connector 15"/>
            <p:cNvSpPr/>
            <p:nvPr/>
          </p:nvSpPr>
          <p:spPr>
            <a:xfrm flipH="1">
              <a:off x="5024160" y="3652920"/>
              <a:ext cx="698400" cy="24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Straight Connector 16"/>
            <p:cNvSpPr/>
            <p:nvPr/>
          </p:nvSpPr>
          <p:spPr>
            <a:xfrm flipH="1">
              <a:off x="5015880" y="2782800"/>
              <a:ext cx="716040" cy="492120"/>
            </a:xfrm>
            <a:prstGeom prst="line">
              <a:avLst/>
            </a:prstGeom>
            <a:ln w="28440">
              <a:solidFill>
                <a:srgbClr val="948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Straight Connector 17"/>
            <p:cNvSpPr/>
            <p:nvPr/>
          </p:nvSpPr>
          <p:spPr>
            <a:xfrm flipH="1">
              <a:off x="5730840" y="2782800"/>
              <a:ext cx="1440" cy="471600"/>
            </a:xfrm>
            <a:prstGeom prst="line">
              <a:avLst/>
            </a:prstGeom>
            <a:ln w="28440">
              <a:solidFill>
                <a:srgbClr val="948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Straight Connector 18"/>
            <p:cNvSpPr/>
            <p:nvPr/>
          </p:nvSpPr>
          <p:spPr>
            <a:xfrm>
              <a:off x="5732280" y="2782800"/>
              <a:ext cx="1281240" cy="452520"/>
            </a:xfrm>
            <a:prstGeom prst="line">
              <a:avLst/>
            </a:prstGeom>
            <a:ln w="28440">
              <a:solidFill>
                <a:srgbClr val="948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Straight Connector 19"/>
            <p:cNvSpPr/>
            <p:nvPr/>
          </p:nvSpPr>
          <p:spPr>
            <a:xfrm>
              <a:off x="5748480" y="2822400"/>
              <a:ext cx="550800" cy="433440"/>
            </a:xfrm>
            <a:prstGeom prst="line">
              <a:avLst/>
            </a:prstGeom>
            <a:ln w="28440">
              <a:solidFill>
                <a:srgbClr val="948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Straight Connector 20"/>
            <p:cNvSpPr/>
            <p:nvPr/>
          </p:nvSpPr>
          <p:spPr>
            <a:xfrm flipH="1">
              <a:off x="5016240" y="2774880"/>
              <a:ext cx="1187280" cy="500040"/>
            </a:xfrm>
            <a:prstGeom prst="line">
              <a:avLst/>
            </a:prstGeom>
            <a:ln w="28440">
              <a:solidFill>
                <a:srgbClr val="948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Straight Connector 21"/>
            <p:cNvSpPr/>
            <p:nvPr/>
          </p:nvSpPr>
          <p:spPr>
            <a:xfrm flipH="1">
              <a:off x="5652720" y="2773080"/>
              <a:ext cx="717480" cy="460440"/>
            </a:xfrm>
            <a:prstGeom prst="line">
              <a:avLst/>
            </a:prstGeom>
            <a:ln w="28440">
              <a:solidFill>
                <a:srgbClr val="948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Straight Connector 22"/>
            <p:cNvSpPr/>
            <p:nvPr/>
          </p:nvSpPr>
          <p:spPr>
            <a:xfrm>
              <a:off x="6203880" y="2803320"/>
              <a:ext cx="95040" cy="452520"/>
            </a:xfrm>
            <a:prstGeom prst="line">
              <a:avLst/>
            </a:prstGeom>
            <a:ln w="28440">
              <a:solidFill>
                <a:srgbClr val="948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Straight Connector 23"/>
            <p:cNvSpPr/>
            <p:nvPr/>
          </p:nvSpPr>
          <p:spPr>
            <a:xfrm>
              <a:off x="6203880" y="2774880"/>
              <a:ext cx="952560" cy="501480"/>
            </a:xfrm>
            <a:prstGeom prst="line">
              <a:avLst/>
            </a:prstGeom>
            <a:ln w="28440">
              <a:solidFill>
                <a:srgbClr val="948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24"/>
            <p:cNvSpPr/>
            <p:nvPr/>
          </p:nvSpPr>
          <p:spPr>
            <a:xfrm>
              <a:off x="6836040" y="3235320"/>
              <a:ext cx="357120" cy="379440"/>
            </a:xfrm>
            <a:prstGeom prst="rect">
              <a:avLst/>
            </a:prstGeom>
            <a:solidFill>
              <a:srgbClr val="78c30e"/>
            </a:solidFill>
            <a:ln w="25560">
              <a:solidFill>
                <a:srgbClr val="568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M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25"/>
            <p:cNvSpPr/>
            <p:nvPr/>
          </p:nvSpPr>
          <p:spPr>
            <a:xfrm>
              <a:off x="6120000" y="3255840"/>
              <a:ext cx="358560" cy="377640"/>
            </a:xfrm>
            <a:prstGeom prst="rect">
              <a:avLst/>
            </a:prstGeom>
            <a:solidFill>
              <a:srgbClr val="78c30e"/>
            </a:solidFill>
            <a:ln w="25560">
              <a:solidFill>
                <a:srgbClr val="568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26"/>
            <p:cNvSpPr/>
            <p:nvPr/>
          </p:nvSpPr>
          <p:spPr>
            <a:xfrm>
              <a:off x="6842160" y="3882960"/>
              <a:ext cx="357120" cy="377640"/>
            </a:xfrm>
            <a:prstGeom prst="rect">
              <a:avLst/>
            </a:prstGeom>
            <a:solidFill>
              <a:srgbClr val="78c30e"/>
            </a:solidFill>
            <a:ln w="25560">
              <a:solidFill>
                <a:srgbClr val="568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T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27"/>
            <p:cNvSpPr/>
            <p:nvPr/>
          </p:nvSpPr>
          <p:spPr>
            <a:xfrm>
              <a:off x="6127920" y="3902040"/>
              <a:ext cx="357120" cy="379440"/>
            </a:xfrm>
            <a:prstGeom prst="rect">
              <a:avLst/>
            </a:prstGeom>
            <a:solidFill>
              <a:srgbClr val="78c30e"/>
            </a:solidFill>
            <a:ln w="25560">
              <a:solidFill>
                <a:srgbClr val="568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T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Straight Connector 28"/>
            <p:cNvSpPr/>
            <p:nvPr/>
          </p:nvSpPr>
          <p:spPr>
            <a:xfrm>
              <a:off x="6299280" y="3633840"/>
              <a:ext cx="7920" cy="26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Straight Connector 29"/>
            <p:cNvSpPr/>
            <p:nvPr/>
          </p:nvSpPr>
          <p:spPr>
            <a:xfrm>
              <a:off x="6299280" y="3633840"/>
              <a:ext cx="722160" cy="23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Straight Connector 30"/>
            <p:cNvSpPr/>
            <p:nvPr/>
          </p:nvSpPr>
          <p:spPr>
            <a:xfrm>
              <a:off x="7013880" y="3614760"/>
              <a:ext cx="7920" cy="26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Straight Connector 31"/>
            <p:cNvSpPr/>
            <p:nvPr/>
          </p:nvSpPr>
          <p:spPr>
            <a:xfrm flipH="1">
              <a:off x="6307200" y="3633840"/>
              <a:ext cx="696960" cy="24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35"/>
            <p:cNvSpPr/>
            <p:nvPr/>
          </p:nvSpPr>
          <p:spPr>
            <a:xfrm>
              <a:off x="5584320" y="2447640"/>
              <a:ext cx="320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Straight Connector 5"/>
          <p:cNvSpPr/>
          <p:nvPr/>
        </p:nvSpPr>
        <p:spPr>
          <a:xfrm>
            <a:off x="4495680" y="1300320"/>
            <a:ext cx="0" cy="4593960"/>
          </a:xfrm>
          <a:prstGeom prst="line">
            <a:avLst/>
          </a:prstGeom>
          <a:ln w="25560">
            <a:solidFill>
              <a:srgbClr val="78c3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35" descr="2images.jpg"/>
          <p:cNvPicPr/>
          <p:nvPr/>
        </p:nvPicPr>
        <p:blipFill>
          <a:blip r:embed="rId1"/>
          <a:stretch/>
        </p:blipFill>
        <p:spPr>
          <a:xfrm>
            <a:off x="0" y="0"/>
            <a:ext cx="1422360" cy="1422360"/>
          </a:xfrm>
          <a:prstGeom prst="rect">
            <a:avLst/>
          </a:prstGeom>
          <a:ln w="0">
            <a:noFill/>
          </a:ln>
        </p:spPr>
      </p:pic>
      <p:sp>
        <p:nvSpPr>
          <p:cNvPr id="612" name="Date Placeholder 1"/>
          <p:cNvSpPr/>
          <p:nvPr/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lide Number Placeholder 4"/>
          <p:cNvSpPr/>
          <p:nvPr/>
        </p:nvSpPr>
        <p:spPr>
          <a:xfrm>
            <a:off x="658980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3D2C4E-4FCE-490F-B3B8-609B47FA3AFE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2" descr="images.jpg"/>
          <p:cNvPicPr/>
          <p:nvPr/>
        </p:nvPicPr>
        <p:blipFill>
          <a:blip r:embed="rId2"/>
          <a:stretch/>
        </p:blipFill>
        <p:spPr>
          <a:xfrm>
            <a:off x="8039160" y="-22320"/>
            <a:ext cx="129528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criptive Topology Modu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Content Placeholder 7"/>
          <p:cNvSpPr/>
          <p:nvPr/>
        </p:nvSpPr>
        <p:spPr>
          <a:xfrm>
            <a:off x="2189160" y="1751040"/>
            <a:ext cx="160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eneva"/>
              </a:rPr>
              <a:t>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24"/>
          <p:cNvSpPr/>
          <p:nvPr/>
        </p:nvSpPr>
        <p:spPr>
          <a:xfrm>
            <a:off x="3110040" y="2597040"/>
            <a:ext cx="357120" cy="379440"/>
          </a:xfrm>
          <a:prstGeom prst="rect">
            <a:avLst/>
          </a:prstGeom>
          <a:solidFill>
            <a:srgbClr val="78c30e"/>
          </a:solidFill>
          <a:ln w="25560">
            <a:solidFill>
              <a:srgbClr val="568f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25"/>
          <p:cNvSpPr/>
          <p:nvPr/>
        </p:nvSpPr>
        <p:spPr>
          <a:xfrm>
            <a:off x="2394000" y="2617920"/>
            <a:ext cx="358560" cy="377640"/>
          </a:xfrm>
          <a:prstGeom prst="rect">
            <a:avLst/>
          </a:prstGeom>
          <a:solidFill>
            <a:srgbClr val="78c30e"/>
          </a:solidFill>
          <a:ln w="25560">
            <a:solidFill>
              <a:srgbClr val="568f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26"/>
          <p:cNvSpPr/>
          <p:nvPr/>
        </p:nvSpPr>
        <p:spPr>
          <a:xfrm>
            <a:off x="3116160" y="3244680"/>
            <a:ext cx="357120" cy="378000"/>
          </a:xfrm>
          <a:prstGeom prst="rect">
            <a:avLst/>
          </a:prstGeom>
          <a:solidFill>
            <a:srgbClr val="78c30e"/>
          </a:solidFill>
          <a:ln w="25560">
            <a:solidFill>
              <a:srgbClr val="568f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l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27"/>
          <p:cNvSpPr/>
          <p:nvPr/>
        </p:nvSpPr>
        <p:spPr>
          <a:xfrm>
            <a:off x="2401920" y="3263760"/>
            <a:ext cx="357120" cy="379440"/>
          </a:xfrm>
          <a:prstGeom prst="rect">
            <a:avLst/>
          </a:prstGeom>
          <a:solidFill>
            <a:srgbClr val="78c30e"/>
          </a:solidFill>
          <a:ln w="25560">
            <a:solidFill>
              <a:srgbClr val="568f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l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traight Connector 28"/>
          <p:cNvSpPr/>
          <p:nvPr/>
        </p:nvSpPr>
        <p:spPr>
          <a:xfrm>
            <a:off x="2573280" y="2995560"/>
            <a:ext cx="7920" cy="268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Straight Connector 29"/>
          <p:cNvSpPr/>
          <p:nvPr/>
        </p:nvSpPr>
        <p:spPr>
          <a:xfrm>
            <a:off x="2573280" y="2995560"/>
            <a:ext cx="722520" cy="23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traight Connector 30"/>
          <p:cNvSpPr/>
          <p:nvPr/>
        </p:nvSpPr>
        <p:spPr>
          <a:xfrm>
            <a:off x="3287880" y="2976480"/>
            <a:ext cx="7920" cy="268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traight Connector 31"/>
          <p:cNvSpPr/>
          <p:nvPr/>
        </p:nvSpPr>
        <p:spPr>
          <a:xfrm flipH="1">
            <a:off x="2581200" y="2995560"/>
            <a:ext cx="696960" cy="249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Date Placeholder 1"/>
          <p:cNvSpPr/>
          <p:nvPr/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lide Number Placeholder 4"/>
          <p:cNvSpPr/>
          <p:nvPr/>
        </p:nvSpPr>
        <p:spPr>
          <a:xfrm>
            <a:off x="658980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87DA20-E1A0-4EC2-81E2-B636457955E6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2"/>
          <p:cNvSpPr/>
          <p:nvPr/>
        </p:nvSpPr>
        <p:spPr>
          <a:xfrm>
            <a:off x="4876560" y="1430280"/>
            <a:ext cx="25416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raph G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spine0's conn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ine0:swp1 -&gt; leaf0:swp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ine0:swp2 -&gt; leaf1:swp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spine1's conn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ine1:swp1 -&gt; leaf0:swp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ine1:swp2 -&gt; leaf1:swp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leaf0's conn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f0:swp1 -&gt; spine0:swp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f0:swp2 -&gt; spine1:swp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leaf1's conn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f1:swp1 -&gt; spine0:swp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f1:swp2 -&gt; spine1:swp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11" descr="2images.jpg"/>
          <p:cNvPicPr/>
          <p:nvPr/>
        </p:nvPicPr>
        <p:blipFill>
          <a:blip r:embed="rId1"/>
          <a:stretch/>
        </p:blipFill>
        <p:spPr>
          <a:xfrm>
            <a:off x="0" y="12600"/>
            <a:ext cx="1422360" cy="142236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2" descr="images.jpg"/>
          <p:cNvPicPr/>
          <p:nvPr/>
        </p:nvPicPr>
        <p:blipFill>
          <a:blip r:embed="rId2"/>
          <a:stretch/>
        </p:blipFill>
        <p:spPr>
          <a:xfrm>
            <a:off x="8039160" y="-22320"/>
            <a:ext cx="129528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criptive Topology Modu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Date Placeholder 1"/>
          <p:cNvSpPr/>
          <p:nvPr/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lide Number Placeholder 4"/>
          <p:cNvSpPr/>
          <p:nvPr/>
        </p:nvSpPr>
        <p:spPr>
          <a:xfrm>
            <a:off x="658980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BD14A7-772E-47DA-8DE8-9EDD94498E6A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2"/>
          <p:cNvSpPr/>
          <p:nvPr/>
        </p:nvSpPr>
        <p:spPr>
          <a:xfrm>
            <a:off x="262800" y="3306600"/>
            <a:ext cx="8593200" cy="277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  <a:ea typeface="Consolas"/>
              </a:rPr>
              <a:t>cumulus@S1:~# ptmct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  <a:ea typeface="Consolas"/>
              </a:rPr>
              <a:t>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  <a:ea typeface="Consolas"/>
              </a:rPr>
              <a:t>Port   Status Expected Nbr         Observed Nbr         Last Upd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  <a:ea typeface="Consolas"/>
              </a:rPr>
              <a:t>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  <a:ea typeface="Consolas"/>
              </a:rPr>
              <a:t>swp1   pass   M1:swp3              M1:swp3              17h:39m:21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  <a:ea typeface="Consolas"/>
              </a:rPr>
              <a:t>swp2   pass   M2:swp3              M2:swp3              17h:39m:21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  <a:ea typeface="Consolas"/>
              </a:rPr>
              <a:t>swp3   pass   M3:swp3              M3:swp3              17h:39m:21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  <a:ea typeface="Consolas"/>
              </a:rPr>
              <a:t>swp4   pass   M4:swp3              M4:swp3              17h:39m:21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  <a:ea typeface="Consolas"/>
              </a:rPr>
              <a:t>Swp5   fail   M5:swp3              M4:swp4              17h:39m:21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  <a:ea typeface="Consolas"/>
              </a:rPr>
              <a:t>cumulus@S1:~#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271160"/>
            <a:ext cx="8229600" cy="18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774"/>
              </a:spcBef>
              <a:buClr>
                <a:srgbClr val="40404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Written in C and Python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774"/>
              </a:spcBef>
              <a:buClr>
                <a:srgbClr val="40404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Communicates with LLDPD (based on </a:t>
            </a:r>
            <a:r>
              <a:rPr b="1" lang="en-US" sz="2400" spc="-1" strike="noStrike" u="sng">
                <a:solidFill>
                  <a:srgbClr val="3e9919"/>
                </a:solidFill>
                <a:uFillTx/>
                <a:latin typeface="Calibri"/>
                <a:hlinkClick r:id="rId1"/>
              </a:rPr>
              <a:t>https://github.com/vincentbernat/lldpd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)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308520" indent="-308520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635" name="Picture 11" descr="2images.jpg"/>
          <p:cNvPicPr/>
          <p:nvPr/>
        </p:nvPicPr>
        <p:blipFill>
          <a:blip r:embed="rId2"/>
          <a:stretch/>
        </p:blipFill>
        <p:spPr>
          <a:xfrm>
            <a:off x="0" y="0"/>
            <a:ext cx="1422360" cy="14223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2" descr="images.jpg"/>
          <p:cNvPicPr/>
          <p:nvPr/>
        </p:nvPicPr>
        <p:blipFill>
          <a:blip r:embed="rId3"/>
          <a:stretch/>
        </p:blipFill>
        <p:spPr>
          <a:xfrm>
            <a:off x="8039160" y="-22320"/>
            <a:ext cx="129528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criptive Topology Modu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Date Placeholder 1"/>
          <p:cNvSpPr/>
          <p:nvPr/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lide Number Placeholder 4"/>
          <p:cNvSpPr/>
          <p:nvPr/>
        </p:nvSpPr>
        <p:spPr>
          <a:xfrm>
            <a:off x="658980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238D28-2446-49E2-8ADA-ACC0117BBDBB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2"/>
          <p:cNvSpPr/>
          <p:nvPr/>
        </p:nvSpPr>
        <p:spPr>
          <a:xfrm>
            <a:off x="204840" y="1054080"/>
            <a:ext cx="4176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88920"/>
                <a:tab algn="l" pos="546120"/>
                <a:tab algn="l" pos="1003320"/>
                <a:tab algn="l" pos="1460520"/>
                <a:tab algn="l" pos="1917720"/>
                <a:tab algn="l" pos="2374920"/>
                <a:tab algn="l" pos="2832120"/>
                <a:tab algn="l" pos="3289320"/>
                <a:tab algn="l" pos="3746520"/>
                <a:tab algn="l" pos="4203720"/>
                <a:tab algn="l" pos="4660920"/>
                <a:tab algn="l" pos="5118120"/>
                <a:tab algn="l" pos="5575320"/>
                <a:tab algn="l" pos="6032520"/>
                <a:tab algn="l" pos="6489720"/>
                <a:tab algn="l" pos="6946920"/>
                <a:tab algn="l" pos="7404120"/>
                <a:tab algn="l" pos="7861320"/>
                <a:tab algn="l" pos="8318520"/>
                <a:tab algn="l" pos="8775720"/>
                <a:tab algn="l" pos="92329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Interopera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"/>
              <a:tabLst>
                <a:tab algn="l" pos="88920"/>
                <a:tab algn="l" pos="546120"/>
                <a:tab algn="l" pos="1003320"/>
                <a:tab algn="l" pos="1460520"/>
                <a:tab algn="l" pos="1917720"/>
                <a:tab algn="l" pos="2374920"/>
                <a:tab algn="l" pos="2832120"/>
                <a:tab algn="l" pos="3289320"/>
                <a:tab algn="l" pos="3746520"/>
                <a:tab algn="l" pos="4203720"/>
                <a:tab algn="l" pos="4660920"/>
                <a:tab algn="l" pos="5118120"/>
                <a:tab algn="l" pos="5575320"/>
                <a:tab algn="l" pos="6032520"/>
                <a:tab algn="l" pos="6489720"/>
                <a:tab algn="l" pos="6946920"/>
                <a:tab algn="l" pos="7404120"/>
                <a:tab algn="l" pos="7861320"/>
                <a:tab algn="l" pos="8318520"/>
                <a:tab algn="l" pos="8775720"/>
                <a:tab algn="l" pos="92329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Any device running an LLDP dae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"/>
              <a:tabLst>
                <a:tab algn="l" pos="88920"/>
                <a:tab algn="l" pos="546120"/>
                <a:tab algn="l" pos="1003320"/>
                <a:tab algn="l" pos="1460520"/>
                <a:tab algn="l" pos="1917720"/>
                <a:tab algn="l" pos="2374920"/>
                <a:tab algn="l" pos="2832120"/>
                <a:tab algn="l" pos="3289320"/>
                <a:tab algn="l" pos="3746520"/>
                <a:tab algn="l" pos="4203720"/>
                <a:tab algn="l" pos="4660920"/>
                <a:tab algn="l" pos="5118120"/>
                <a:tab algn="l" pos="5575320"/>
                <a:tab algn="l" pos="6032520"/>
                <a:tab algn="l" pos="6489720"/>
                <a:tab algn="l" pos="6946920"/>
                <a:tab algn="l" pos="7404120"/>
                <a:tab algn="l" pos="7861320"/>
                <a:tab algn="l" pos="8318520"/>
                <a:tab algn="l" pos="8775720"/>
                <a:tab algn="l" pos="92329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  <a:ea typeface="Calibri"/>
              </a:rPr>
              <a:t>Routing adjacencies can be brought by the device running PT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88920"/>
                <a:tab algn="l" pos="546120"/>
                <a:tab algn="l" pos="1003320"/>
                <a:tab algn="l" pos="1460520"/>
                <a:tab algn="l" pos="1917720"/>
                <a:tab algn="l" pos="2374920"/>
                <a:tab algn="l" pos="2832120"/>
                <a:tab algn="l" pos="3289320"/>
                <a:tab algn="l" pos="3746520"/>
                <a:tab algn="l" pos="4203720"/>
                <a:tab algn="l" pos="4660920"/>
                <a:tab algn="l" pos="5118120"/>
                <a:tab algn="l" pos="5575320"/>
                <a:tab algn="l" pos="6032520"/>
                <a:tab algn="l" pos="6489720"/>
                <a:tab algn="l" pos="6946920"/>
                <a:tab algn="l" pos="7404120"/>
                <a:tab algn="l" pos="7861320"/>
                <a:tab algn="l" pos="8318520"/>
                <a:tab algn="l" pos="8775720"/>
                <a:tab algn="l" pos="92329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8"/>
          <p:cNvSpPr/>
          <p:nvPr/>
        </p:nvSpPr>
        <p:spPr>
          <a:xfrm>
            <a:off x="4365720" y="1090440"/>
            <a:ext cx="4752720" cy="1919160"/>
          </a:xfrm>
          <a:prstGeom prst="rect">
            <a:avLst/>
          </a:prstGeom>
          <a:solidFill>
            <a:srgbClr val="d9d9d9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digraph G {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S1:swp1 -&gt; S2:swp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S1:swp2 -&gt; S2:swp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S1:swp3 -&gt; "procurve1.lab":2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S1:swp4 -&gt; "procurve1.lab":2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S1:swp5 -&gt; "cisco1.lab":"GigabitEthernet0/1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S1:swp6 -&gt; "jmx480":"xe-0/0/0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S1:swp7 -&gt; webserver1:eth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S1:swp8 -&gt; webserver1:eth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2"/>
          <p:cNvSpPr/>
          <p:nvPr/>
        </p:nvSpPr>
        <p:spPr>
          <a:xfrm>
            <a:off x="457200" y="3213000"/>
            <a:ext cx="8242200" cy="3987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  <a:ea typeface="Consolas"/>
              </a:rPr>
              <a:t>cumulus@S1:~# ptmct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  <a:ea typeface="Consolas"/>
              </a:rPr>
              <a:t>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  <a:ea typeface="Consolas"/>
              </a:rPr>
              <a:t>Port   Status Expected Nbr         Observed Nbr         Last Upd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  <a:ea typeface="Consolas"/>
              </a:rPr>
              <a:t>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  <a:ea typeface="Consolas"/>
              </a:rPr>
              <a:t>swp1   pass   S2:swp1              S2:swp1              17m: 2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  <a:ea typeface="Consolas"/>
              </a:rPr>
              <a:t>swp2   pass   S2:swp2              S2:swp2              17m: 2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  <a:ea typeface="Consolas"/>
              </a:rPr>
              <a:t>swp3   pass   procurve1.lab:21     procurve1.lab:21     17m: 10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  <a:ea typeface="Consolas"/>
              </a:rPr>
              <a:t>swp4   pass   procurve1.lab:22     procurve1.lab:22     17m: 10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  <a:ea typeface="Consolas"/>
              </a:rPr>
              <a:t>swp5   pass   cisco1.lab:GigabitEthernet0/1 cisco1lab:GigabitEthernet0/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  <a:ea typeface="Consolas"/>
              </a:rPr>
              <a:t>swp6   pass   jmx480.lab:xe-0/0/0   jmx480.lab:xe-0/0/0   17m: 1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  <a:ea typeface="Consolas"/>
              </a:rPr>
              <a:t>swp7   pass   webserver1:eth0      webserver1:eth0      17m: 3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olas"/>
                <a:ea typeface="Consolas"/>
              </a:rPr>
              <a:t>swp8   pass   webserver1:eth1      webserver1:eth1      17m: 3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11" descr="2images.jpg"/>
          <p:cNvPicPr/>
          <p:nvPr/>
        </p:nvPicPr>
        <p:blipFill>
          <a:blip r:embed="rId1"/>
          <a:stretch/>
        </p:blipFill>
        <p:spPr>
          <a:xfrm>
            <a:off x="0" y="0"/>
            <a:ext cx="1422360" cy="142236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2" descr="images.jpg"/>
          <p:cNvPicPr/>
          <p:nvPr/>
        </p:nvPicPr>
        <p:blipFill>
          <a:blip r:embed="rId2"/>
          <a:stretch/>
        </p:blipFill>
        <p:spPr>
          <a:xfrm>
            <a:off x="8039160" y="-22320"/>
            <a:ext cx="129528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457200" y="102564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Arial"/>
              </a:rPr>
              <a:t>What are we missing?</a:t>
            </a: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Arial"/>
              </a:rPr>
              <a:t>Hardware acceleration of the networking forwarding path</a:t>
            </a: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Date Placeholder 3"/>
          <p:cNvSpPr/>
          <p:nvPr/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663408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3BD91B-5014-4F51-832F-9E781D26E4F0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457200" y="1084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Modern datacenters adoption of new technologies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application demands push protocol scale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physical (100Gbps distance, speed of light)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administrative (layer 8) resources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DN”, OpenFlow, network virtualization, configuration management, and many other efforts are throwing a wrench against traditional networking practices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Date Placeholder 3"/>
          <p:cNvSpPr/>
          <p:nvPr/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lide Number Placeholder 4"/>
          <p:cNvSpPr/>
          <p:nvPr/>
        </p:nvSpPr>
        <p:spPr>
          <a:xfrm>
            <a:off x="658980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413FE9-BB77-4901-938E-B2D1971E413D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e way of hardware accelera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Date Placeholder 3"/>
          <p:cNvSpPr/>
          <p:nvPr/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lide Number Placeholder 5"/>
          <p:cNvSpPr/>
          <p:nvPr/>
        </p:nvSpPr>
        <p:spPr>
          <a:xfrm>
            <a:off x="658980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F06C5A-42C0-4D17-B468-0B9EEEE744C3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3" descr=""/>
          <p:cNvPicPr/>
          <p:nvPr/>
        </p:nvPicPr>
        <p:blipFill>
          <a:blip r:embed="rId1"/>
          <a:stretch/>
        </p:blipFill>
        <p:spPr>
          <a:xfrm>
            <a:off x="876240" y="841320"/>
            <a:ext cx="746784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87360" y="3205080"/>
            <a:ext cx="656928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Arial"/>
                <a:ea typeface="Arial"/>
              </a:rPr>
              <a:t>Thank you!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Rectangle 1"/>
          <p:cNvSpPr/>
          <p:nvPr/>
        </p:nvSpPr>
        <p:spPr>
          <a:xfrm>
            <a:off x="1973160" y="4665600"/>
            <a:ext cx="521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eneva"/>
              </a:rPr>
              <a:t>nat@cumulusnetworks.com | @natmor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457200" y="1084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Typical Network Operating System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(switch and/or router)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tructured as “black box” 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625320" indent="-282240">
              <a:lnSpc>
                <a:spcPct val="100000"/>
              </a:lnSpc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ndale Mono"/>
                <a:ea typeface="Andale Mono"/>
              </a:rPr>
              <a:t>CLI != API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osed development mode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Diagnostics “under the hood” difficult to see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omplicated management tool chains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SNMP MIB’s… hel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Screen scraping… regex’s change on OS version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Arcane / low adoption scripting language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Not geared for rapid spin-up / spin-down of resources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ditional network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Date Placeholder 3"/>
          <p:cNvSpPr/>
          <p:nvPr/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4"/>
          <p:cNvSpPr/>
          <p:nvPr/>
        </p:nvSpPr>
        <p:spPr>
          <a:xfrm>
            <a:off x="658980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49CCAC-2EAD-494C-B8D9-8552FE8A16D8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457200" y="1084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IP-based networks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Limited adoption - large scale L2, InfiniBand, ATM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onfiguration management / automation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Monitoring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Policy enforcement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Rapid spin-up / spin-down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New breed of applications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East-West vs. North-South flow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80" name="Date Placeholder 3"/>
          <p:cNvSpPr/>
          <p:nvPr/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4"/>
          <p:cNvSpPr/>
          <p:nvPr/>
        </p:nvSpPr>
        <p:spPr>
          <a:xfrm>
            <a:off x="658980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81CE4B-7699-4B02-A04B-6C34AC52A8E6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ern datacenter network roo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457200" y="1084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Dominate server platform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Well established ecosystem of distributions, best practices, knowledge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Open well documented API, large selection of language interpreter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Excellent networking support - IPv6, NAT’s, QoS, accounting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Vibrant community which fuels rapid innovation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spcBef>
                <a:spcPts val="1774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Heavy automation frameworks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Open nature has facilitated huge management tool-chain progress 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84" name="Date Placeholder 3"/>
          <p:cNvSpPr/>
          <p:nvPr/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658980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6CFA84-4FD4-4103-9EEF-325CB616F09E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ux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457200" y="102564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</a:rPr>
              <a:t>GNU/Linux is a great fit as the OS for </a:t>
            </a:r>
            <a:r>
              <a:rPr b="0" i="1" lang="en-US" sz="3600" spc="-1" strike="noStrike">
                <a:solidFill>
                  <a:srgbClr val="595959"/>
                </a:solidFill>
                <a:latin typeface="Arial"/>
              </a:rPr>
              <a:t>not just </a:t>
            </a:r>
            <a:r>
              <a:rPr b="0" lang="en-US" sz="3600" spc="-1" strike="noStrike">
                <a:solidFill>
                  <a:srgbClr val="595959"/>
                </a:solidFill>
                <a:latin typeface="Arial"/>
              </a:rPr>
              <a:t>servers but also routers and switches in the modern data center</a:t>
            </a:r>
            <a:endParaRPr b="0" lang="en-US" sz="3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other words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Date Placeholder 3"/>
          <p:cNvSpPr/>
          <p:nvPr/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lide Number Placeholder 4"/>
          <p:cNvSpPr/>
          <p:nvPr/>
        </p:nvSpPr>
        <p:spPr>
          <a:xfrm>
            <a:off x="663408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0F2144-AC1C-4D7F-8B7B-D601A9F09768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Date Placeholder 1"/>
          <p:cNvSpPr/>
          <p:nvPr/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658980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7D5A99-FAB9-4B0D-8D46-5B55FB23223F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1"/>
          <p:cNvSpPr/>
          <p:nvPr/>
        </p:nvSpPr>
        <p:spPr>
          <a:xfrm>
            <a:off x="426960" y="1251000"/>
            <a:ext cx="3465720" cy="4267080"/>
          </a:xfrm>
          <a:custGeom>
            <a:avLst/>
            <a:gdLst>
              <a:gd name="textAreaLeft" fmla="*/ 169200 w 3465720"/>
              <a:gd name="textAreaRight" fmla="*/ 3296520 w 3465720"/>
              <a:gd name="textAreaTop" fmla="*/ 169200 h 4267080"/>
              <a:gd name="textAreaBottom" fmla="*/ 4097880 h 4267080"/>
            </a:gdLst>
            <a:ahLst/>
            <a:rect l="textAreaLeft" t="textAreaTop" r="textAreaRight" b="textAreaBottom"/>
            <a:pathLst>
              <a:path w="21600" h="26594">
                <a:moveTo>
                  <a:pt x="3600" y="0"/>
                </a:moveTo>
                <a:arcTo wR="3600" hR="3600" stAng="16200000" swAng="-5400000"/>
                <a:lnTo>
                  <a:pt x="0" y="22994"/>
                </a:lnTo>
                <a:arcTo wR="3600" hR="3600" stAng="10800000" swAng="-5400000"/>
                <a:lnTo>
                  <a:pt x="18000" y="265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dff8a"/>
              </a:gs>
              <a:gs pos="100000">
                <a:srgbClr val="c6d9f1"/>
              </a:gs>
            </a:gsLst>
            <a:lin ang="5400000"/>
          </a:gradFill>
          <a:ln cap="sq" w="9360">
            <a:solidFill>
              <a:srgbClr val="76c309"/>
            </a:solidFill>
            <a:miter/>
          </a:ln>
          <a:effectLst>
            <a:outerShdw dist="75596" dir="106468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2"/>
          <p:cNvSpPr/>
          <p:nvPr/>
        </p:nvSpPr>
        <p:spPr>
          <a:xfrm>
            <a:off x="2717640" y="1251000"/>
            <a:ext cx="4316400" cy="426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dff8a"/>
              </a:gs>
              <a:gs pos="100000">
                <a:srgbClr val="7dde00"/>
              </a:gs>
            </a:gsLst>
            <a:lin ang="5400000"/>
          </a:gradFill>
          <a:ln cap="sq" w="9360">
            <a:solidFill>
              <a:srgbClr val="76c309"/>
            </a:solidFill>
            <a:miter/>
          </a:ln>
          <a:effectLst>
            <a:outerShdw dist="75596" dir="106468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3"/>
          <p:cNvSpPr/>
          <p:nvPr/>
        </p:nvSpPr>
        <p:spPr>
          <a:xfrm>
            <a:off x="4836960" y="1251000"/>
            <a:ext cx="3648240" cy="4267080"/>
          </a:xfrm>
          <a:custGeom>
            <a:avLst/>
            <a:gdLst>
              <a:gd name="textAreaLeft" fmla="*/ 177840 w 3648240"/>
              <a:gd name="textAreaRight" fmla="*/ 3470400 w 3648240"/>
              <a:gd name="textAreaTop" fmla="*/ 177840 h 4267080"/>
              <a:gd name="textAreaBottom" fmla="*/ 4089240 h 4267080"/>
            </a:gdLst>
            <a:ahLst/>
            <a:rect l="textAreaLeft" t="textAreaTop" r="textAreaRight" b="textAreaBottom"/>
            <a:pathLst>
              <a:path w="21600" h="25264">
                <a:moveTo>
                  <a:pt x="3600" y="0"/>
                </a:moveTo>
                <a:arcTo wR="3600" hR="3600" stAng="16200000" swAng="-5400000"/>
                <a:lnTo>
                  <a:pt x="0" y="21664"/>
                </a:lnTo>
                <a:arcTo wR="3600" hR="3600" stAng="10800000" swAng="-5400000"/>
                <a:lnTo>
                  <a:pt x="18000" y="25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dff8a"/>
              </a:gs>
              <a:gs pos="100000">
                <a:srgbClr val="7fe8a0"/>
              </a:gs>
            </a:gsLst>
            <a:lin ang="5400000"/>
          </a:gradFill>
          <a:ln cap="sq" w="9360">
            <a:solidFill>
              <a:srgbClr val="76c309"/>
            </a:solidFill>
            <a:miter/>
          </a:ln>
          <a:effectLst>
            <a:outerShdw dist="75596" dir="106468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4975200" y="267192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ux as the embedded OS: process and memory mg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6"/>
          <p:cNvSpPr/>
          <p:nvPr/>
        </p:nvSpPr>
        <p:spPr>
          <a:xfrm>
            <a:off x="7176960" y="3494160"/>
            <a:ext cx="1606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7"/>
          <p:cNvSpPr/>
          <p:nvPr/>
        </p:nvSpPr>
        <p:spPr>
          <a:xfrm>
            <a:off x="2768760" y="2717640"/>
            <a:ext cx="212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bedded OS with process and memory mg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8"/>
          <p:cNvSpPr/>
          <p:nvPr/>
        </p:nvSpPr>
        <p:spPr>
          <a:xfrm>
            <a:off x="576360" y="2720880"/>
            <a:ext cx="1701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real OS, while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9"/>
          <p:cNvSpPr/>
          <p:nvPr/>
        </p:nvSpPr>
        <p:spPr>
          <a:xfrm>
            <a:off x="426960" y="20494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lithic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0"/>
          <p:cNvSpPr/>
          <p:nvPr/>
        </p:nvSpPr>
        <p:spPr>
          <a:xfrm>
            <a:off x="2749680" y="2043000"/>
            <a:ext cx="21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al-time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1"/>
          <p:cNvSpPr/>
          <p:nvPr/>
        </p:nvSpPr>
        <p:spPr>
          <a:xfrm>
            <a:off x="4975200" y="2027160"/>
            <a:ext cx="20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ux-based 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4"/>
          <p:cNvSpPr/>
          <p:nvPr/>
        </p:nvSpPr>
        <p:spPr>
          <a:xfrm>
            <a:off x="560520" y="4675320"/>
            <a:ext cx="2103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g: IOS, Ca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5"/>
          <p:cNvSpPr/>
          <p:nvPr/>
        </p:nvSpPr>
        <p:spPr>
          <a:xfrm>
            <a:off x="4965840" y="3906720"/>
            <a:ext cx="225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rietary ro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switching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6"/>
          <p:cNvSpPr/>
          <p:nvPr/>
        </p:nvSpPr>
        <p:spPr>
          <a:xfrm>
            <a:off x="3008160" y="4649760"/>
            <a:ext cx="16909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g: 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7"/>
          <p:cNvSpPr/>
          <p:nvPr/>
        </p:nvSpPr>
        <p:spPr>
          <a:xfrm>
            <a:off x="5024520" y="4686480"/>
            <a:ext cx="16905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g: NX-OS, E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18"/>
          <p:cNvSpPr/>
          <p:nvPr/>
        </p:nvSpPr>
        <p:spPr>
          <a:xfrm>
            <a:off x="7189920" y="1251000"/>
            <a:ext cx="1593720" cy="4267080"/>
          </a:xfrm>
          <a:custGeom>
            <a:avLst/>
            <a:gdLst>
              <a:gd name="textAreaLeft" fmla="*/ 77760 w 1593720"/>
              <a:gd name="textAreaRight" fmla="*/ 1515960 w 1593720"/>
              <a:gd name="textAreaTop" fmla="*/ 77760 h 4267080"/>
              <a:gd name="textAreaBottom" fmla="*/ 4189320 h 4267080"/>
            </a:gdLst>
            <a:ahLst/>
            <a:rect l="textAreaLeft" t="textAreaTop" r="textAreaRight" b="textAreaBottom"/>
            <a:pathLst>
              <a:path w="21600" h="57824">
                <a:moveTo>
                  <a:pt x="3600" y="0"/>
                </a:moveTo>
                <a:arcTo wR="3600" hR="3600" stAng="16200000" swAng="-5400000"/>
                <a:lnTo>
                  <a:pt x="0" y="54224"/>
                </a:lnTo>
                <a:arcTo wR="3600" hR="3600" stAng="10800000" swAng="-5400000"/>
                <a:lnTo>
                  <a:pt x="18000" y="578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dff8a"/>
              </a:gs>
              <a:gs pos="100000">
                <a:srgbClr val="147031"/>
              </a:gs>
            </a:gsLst>
            <a:lin ang="5400000"/>
          </a:gradFill>
          <a:ln cap="sq" w="9360">
            <a:solidFill>
              <a:srgbClr val="76c309"/>
            </a:solidFill>
            <a:miter/>
          </a:ln>
          <a:effectLst>
            <a:outerShdw dist="75596" dir="106468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9"/>
          <p:cNvSpPr/>
          <p:nvPr/>
        </p:nvSpPr>
        <p:spPr>
          <a:xfrm>
            <a:off x="7248600" y="4653000"/>
            <a:ext cx="160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mulus Lin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20"/>
          <p:cNvSpPr/>
          <p:nvPr/>
        </p:nvSpPr>
        <p:spPr>
          <a:xfrm>
            <a:off x="7236000" y="2100240"/>
            <a:ext cx="21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ux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21"/>
          <p:cNvSpPr/>
          <p:nvPr/>
        </p:nvSpPr>
        <p:spPr>
          <a:xfrm>
            <a:off x="7243920" y="2716200"/>
            <a:ext cx="209700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ux 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work 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tive ro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swit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22"/>
          <p:cNvSpPr/>
          <p:nvPr/>
        </p:nvSpPr>
        <p:spPr>
          <a:xfrm>
            <a:off x="2733840" y="3906720"/>
            <a:ext cx="225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rietary ro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switching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3"/>
          <p:cNvSpPr/>
          <p:nvPr/>
        </p:nvSpPr>
        <p:spPr>
          <a:xfrm>
            <a:off x="573120" y="3906720"/>
            <a:ext cx="225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rietary ro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switching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rating System Evolu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457200" y="102564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Arial"/>
              </a:rPr>
              <a:t>What advantages does this provide?</a:t>
            </a: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Date Placeholder 3"/>
          <p:cNvSpPr/>
          <p:nvPr/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4"/>
          <p:cNvSpPr/>
          <p:nvPr/>
        </p:nvSpPr>
        <p:spPr>
          <a:xfrm>
            <a:off x="663408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7393D2-349F-40FA-94A8-D69A2A9E2E95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4" descr=""/>
          <p:cNvPicPr/>
          <p:nvPr/>
        </p:nvPicPr>
        <p:blipFill>
          <a:blip r:embed="rId1"/>
          <a:stretch/>
        </p:blipFill>
        <p:spPr>
          <a:xfrm>
            <a:off x="3852720" y="1585800"/>
            <a:ext cx="2678400" cy="157320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457200" y="1084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Routing 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Quagga (many forks), BIRD, Xorp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2" marL="914400">
              <a:spcBef>
                <a:spcPts val="400"/>
              </a:spcBef>
              <a:spcAft>
                <a:spcPts val="601"/>
              </a:spcAft>
              <a:buClr>
                <a:srgbClr val="71b6d5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ae00"/>
                </a:solidFill>
                <a:latin typeface="Arial"/>
              </a:rPr>
              <a:t>OSPF unnumbered</a:t>
            </a:r>
            <a:endParaRPr b="0" lang="en-US" sz="1600" spc="-1" strike="noStrike">
              <a:solidFill>
                <a:srgbClr val="ffae00"/>
              </a:solidFill>
              <a:latin typeface="Arial"/>
            </a:endParaRPr>
          </a:p>
          <a:p>
            <a:pPr lvl="2" marL="914400">
              <a:spcBef>
                <a:spcPts val="400"/>
              </a:spcBef>
              <a:spcAft>
                <a:spcPts val="601"/>
              </a:spcAft>
              <a:buClr>
                <a:srgbClr val="71b6d5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ae00"/>
                </a:solidFill>
                <a:latin typeface="Arial"/>
              </a:rPr>
              <a:t>Looking glass</a:t>
            </a:r>
            <a:endParaRPr b="0" lang="en-US" sz="1600" spc="-1" strike="noStrike">
              <a:solidFill>
                <a:srgbClr val="ffae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600" spc="-1" strike="noStrike">
              <a:solidFill>
                <a:srgbClr val="ffae00"/>
              </a:solidFill>
              <a:latin typeface="Arial"/>
            </a:endParaRPr>
          </a:p>
          <a:p>
            <a:pPr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Bridging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Kernel STP, MSTPD (BDPU Guard, Bridge Assurance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spcBef>
                <a:spcPts val="1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Discovery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625320" indent="-282240">
              <a:spcBef>
                <a:spcPts val="451"/>
              </a:spcBef>
              <a:buClr>
                <a:srgbClr val="f9c51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LLDAP, Open-LLDP, LLDPD (many implement CDP, FDP, etc.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n Source L2 &amp; L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Date Placeholder 3"/>
          <p:cNvSpPr/>
          <p:nvPr/>
        </p:nvSpPr>
        <p:spPr>
          <a:xfrm>
            <a:off x="457200" y="6440400"/>
            <a:ext cx="137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ctober 16, 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4"/>
          <p:cNvSpPr/>
          <p:nvPr/>
        </p:nvSpPr>
        <p:spPr>
          <a:xfrm>
            <a:off x="6589800" y="6440400"/>
            <a:ext cx="41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E0E1C1-E421-4842-BC37-A5F93340DCA5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5" descr=""/>
          <p:cNvPicPr/>
          <p:nvPr/>
        </p:nvPicPr>
        <p:blipFill>
          <a:blip r:embed="rId2"/>
          <a:stretch/>
        </p:blipFill>
        <p:spPr>
          <a:xfrm>
            <a:off x="6727680" y="1270080"/>
            <a:ext cx="173700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5T23:37:01Z</dcterms:created>
  <dc:creator>Nat Morris</dc:creator>
  <dc:description/>
  <cp:keywords/>
  <dc:language>en-US</dc:language>
  <cp:lastModifiedBy>Nat Morris</cp:lastModifiedBy>
  <dcterms:modified xsi:type="dcterms:W3CDTF">2013-10-16T05:34:18Z</dcterms:modified>
  <cp:revision>803</cp:revision>
  <dc:subject/>
  <dc:title>Over coming traditional network limitations with open source</dc:title>
</cp:coreProperties>
</file>