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3046B-91E2-44EE-843C-91305B44A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FDAE2-F6C0-4C56-B2FB-0CA5F7B11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twitter “@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62316-8754-43D6-9D68-C995ADC86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22D-CF5A-4366-900B-14D117C8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4A7-2A68-497D-B490-238F0D7B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1E783-CCE8-4EC2-BC3A-DF99958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2A64-8AEA-46CE-B52A-1EC7A46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328AE-C11B-4628-AE33-7B52DC9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757FB-92C1-4DEA-A753-D296937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8F19-44D1-4B2D-A0CC-22933FF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D4CEF-9675-40FF-9128-530618C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3741A-AE63-4FB9-8AC4-E4502233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1E247-0905-4C4E-A9DC-2EF6FEA7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A14E4-A56A-477E-ABED-47C1C601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4DCFB-FE62-470B-978D-479E32D9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1AD-45B4-4190-9254-8B13A4B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89588-CA79-4AAB-9EE0-003F94F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1093B-4E97-4200-87EE-6896848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F3C0C-AD05-4653-9D87-69D881C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8D706-A127-48D6-A594-A1BEEC5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17BC-FBA0-43D6-967C-6EE0B5CB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784B7-8A2A-46EE-B001-856E35D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1250D-10E1-4E83-B4A6-F1E2512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FFDE4-A99B-4D44-8CFB-89A32AA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65E1-89C5-48C3-8695-0FB2662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BB18A-AB3A-4588-895B-F5CBE2B2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7D1-A761-42B9-8B0D-4E098949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0D2E-3CF6-48FA-BE60-AD2D2B88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06BA8-48F4-499C-9A94-0BD26368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30078-E1F5-472B-8007-49547A54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A7EA-5B85-495B-B226-15CE41DA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CE33B-44A4-434B-8C8B-1795284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E64E-CA68-432A-A9BA-AE970C19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7C50C-B2A5-4221-8EF6-5A1C391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678EE-BC40-4014-B6B7-BC004C2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21D64-A6D4-4687-9CF5-F05CE141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58B0B-24A1-4596-9467-9AC7A1C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B85-C805-4AB3-8FF5-46809EB0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72583-FF76-4557-BDE3-D8132EB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E5AD3-87C2-4D3D-821B-5EFCD7EB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4A8E-B6A9-4648-B9C3-45D46552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E9B-D15E-43DC-A20D-C3504B0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E75A-234A-4D37-BFF3-CD7BCF2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92EE-1083-4A63-9650-AA05E9D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62A-CB73-4B2F-8068-D35062B9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AAF-0AD3-48B4-A8E4-1850A91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4E8E-C330-4DF8-B482-7752904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F61-7EB7-4E5A-A003-EEFC6DC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487C-F22C-40D9-BC09-363E8FB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D3A3-4D33-4FD3-88B5-661AEFD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B564-125C-4899-82E1-B924675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13CA-FF42-45D4-8802-DFAC4E6F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546D-50CD-4A52-ADA4-39057E65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3F41-E8DB-4CB2-8044-85FCD31D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70FF-5FF9-4A46-8B1A-8EABC525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E3D6-2693-4FC9-8C0D-7DDEC029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A4DF-485D-4130-9CE8-184F1489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A258-C5AE-4EBF-9A0E-4123AB93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EE2-8B36-4294-8AB6-3A2DB793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1112-BCDA-4633-BDFD-E896DB2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780B-7490-4123-9A61-B11F6106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6F92-8793-4DC1-8875-A5814D0C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FA3F-3C23-4E30-A390-49E7615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3C51-5A74-433B-9C6E-D7B8C9D2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C689-6374-430E-B5B1-32AAF925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1C30-C08C-43A8-A397-307C80CE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CF52-94D5-48D2-BFF1-1050F2B5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C9AC-8E86-41D2-B7CD-52FFF08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54E7-0343-4229-95A7-38F570D2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A82-5A34-4991-AE1E-633CDF6E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9CF0-F1D5-4C96-828E-43BC086F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49FC-ACA9-4572-97E2-CDC1A7E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04AD-8F82-4CB8-BD7E-0E397063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8C7F-C775-4299-8C1F-29B56975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12C4-51EE-4CF9-87B0-7A51956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CB4E-905B-4C58-B44B-1216F6C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303E-4AC6-479B-88F1-E3D41D5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1057-1D6F-430D-B1DF-C84C0B63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346BF-7503-484D-AC97-FA2C0180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616E6-1A71-4259-8312-2E3A1C5C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14B-4032-4FEC-82D8-FA8D3043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7FD2-0425-4062-8C88-3ED76880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7F79-EB1A-45F5-9A6A-38609A5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8BDD-D587-478B-9846-B8D9535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05DA-EB0F-476A-84D3-DE182C2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CFEB-80D4-461E-B5F2-59AC7504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E24C-8D88-4E2C-AC6B-68CE895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DEFB-60E6-4FB5-84ED-59F82BF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68D6-5DF8-46C5-8EA9-547F409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13E0F-C9D0-4112-A3F4-A207875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E33E-FA49-4068-9B24-2FADC555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A66-DD24-4898-BFC8-2092FB1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4F00-ABFF-4BEE-9A87-E346020D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73F9-ED0F-4168-AA0E-783A5D2B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B47B-1E91-4FE2-9147-051AEEC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70E2-C7D0-41EB-BC51-1D66632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CFE1-8CE0-4C8C-B384-58D3453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DFDB-5323-4F2C-9101-E31F194F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ABF00-D7D3-44AD-9E19-63BEBAE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2E77-8FBB-4779-8F08-643B1A5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56370-37A8-480A-B3E6-F5EA75F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C82B-EA25-46ED-9677-B1ED72D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0E3-E891-4C53-B4A6-0407351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9AF13-C2C1-4364-9035-6D3ADC4F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D883-14A3-47A9-90E9-74A7D4F4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9FAC-10CD-4A6D-9728-42A5B514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5E7A-00D6-4CED-9737-D794D899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0EB8-9160-49AA-A356-606B2DCC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4C832-07E4-4411-AE92-67C4447D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DCE4C-CA3B-41C3-9510-2B1D63B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55891-E60E-49C9-9EC3-CBF6DBE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EE3E-4639-46F0-BFF8-81699BB2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5E8F-C9CB-4C5B-AA9D-6017E98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F1B-890C-4BCB-9FFE-5267750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22371-8207-4CEE-82D1-0BA46DC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1C77A-237F-49C8-ADF7-35C228C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1EBF-2AA5-4B8C-AEE3-E033DFF1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9F3EC-486F-4C2E-B516-45F50BB6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6E75C-B9C3-41F4-9D4A-6DEA40C0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C7AE-E015-4478-B40C-85047578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B92A4-5473-4D44-8926-CDB2EB41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DCD40-CB7D-4251-8314-BCBEECC6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1ED2-BE05-4CFC-9A8D-FD975423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28176-AC52-42CB-BAC2-E1B547BA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65D-1697-4082-B842-8D4B807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5D0E-9DAF-4870-8072-FB91F4E7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D543-127C-4F03-BB39-6F11B710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7C2F-24A0-4844-92DE-5CE8F3D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3B31-27E9-4EDB-9EB9-7D54B4C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0EB63-C218-4B94-BF7D-AF97FF76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C3B35-B919-4703-A22B-7B20624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51CD-2156-42AA-9F18-B0150F88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AD4D2-26EB-430C-9F7C-6F9FCA96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432F8-48FB-40AA-A3CD-F20E09DB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45F04-5DF1-4E83-A197-8DC022BF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BC829-9C39-4258-99E7-B615F7FDC33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FCB74-FC0D-4DF9-9F27-8C7DAE1B78E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9D63C-CD93-430E-B50C-867AE86FF80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umulus_PPT_Analys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2B2BA-F89F-441A-85EF-8A74092461B9}" type="datetime3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tent presented under NDA 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D51FC-27F8-46D7-94C2-2A2AD6D64BB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63372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60E60-2F80-4EBD-B328-6155583C892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37239-1020-4914-B5FD-21B399FA226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E2D2A-DA86-4DE5-83D5-7979FF527F2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157B9-D3D6-44E9-ABF1-F7631A96CE9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C364B-406B-4565-9DB7-FBDE94CA728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324F2-5272-427B-BD4A-BCBE9552C74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63BDF-76AA-4374-9D1E-FF0FC24C175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github.com/vincentbernat/lldpd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09720" y="3205080"/>
            <a:ext cx="73245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Over coming traditional network limitations with open sour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1"/>
          <p:cNvSpPr/>
          <p:nvPr/>
        </p:nvSpPr>
        <p:spPr>
          <a:xfrm>
            <a:off x="-681120" y="3087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92088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raditional tool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TCL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– limited adopt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XSLT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– single vendor, mostly supplied tool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Except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– Rancid base, very popular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evOps” tools have major adop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fengine, Puppet, Chef, Ansib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alt, Trigger, … literally new tools every quarter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arge diverse communities (conferences, books, professional service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Nirvana = same tool chain for compute AND network environment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etDevOps” re-born agai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NetDev abstraction layer in puppet, chef, &amp; ansib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ossible “SDN” pill which CCIE’s can appreciate?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E0DC8-BEE1-4B79-8841-EB56006B3B3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8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6960" y="1049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raditional tool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NMP – Where can I get a copy of the MIB?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MRTG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acti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Newer tools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(again, compute folks learned long ago SNMP was a fail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ollectD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iamond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Graphite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nsu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Deploy agents directly on the network devices, pushing stats and state, instead of polling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64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C95FA-6C9B-44D5-AE78-5AD533F5DCB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ulus Networks contrib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123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ONIE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Open Source boot loader for network devic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Prescriptive Topology Daemon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ata centre cable verification using LLDP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Quagga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ctively submitting patches, major bugfix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MSTP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Bridge assurance, various bugfix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3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8DE58-E5CC-446A-9E8A-0C933281B13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544824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Problem: 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witches need the equivalent of a boot loader to allow disaggregation of hardware from operating system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Solution: ONIE, installer environment to address open hardware ecosystem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A small, Linux based operating system that comes pre-installed on bare metal switches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rovides an environment for network OS installers (Network operating system neutral)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IE - Open Network Install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Date Placeholder 6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64AA-4F8A-4FD0-AF60-2D071663142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1"/>
          <p:cNvSpPr/>
          <p:nvPr/>
        </p:nvSpPr>
        <p:spPr>
          <a:xfrm>
            <a:off x="6521400" y="5345280"/>
            <a:ext cx="2183040" cy="344160"/>
          </a:xfrm>
          <a:prstGeom prst="roundRect">
            <a:avLst>
              <a:gd name="adj" fmla="val 16667"/>
            </a:avLst>
          </a:prstGeom>
          <a:solidFill>
            <a:srgbClr val="4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re metal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2"/>
          <p:cNvSpPr/>
          <p:nvPr/>
        </p:nvSpPr>
        <p:spPr>
          <a:xfrm>
            <a:off x="6586560" y="4486320"/>
            <a:ext cx="2052720" cy="342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13"/>
          <p:cNvSpPr/>
          <p:nvPr/>
        </p:nvSpPr>
        <p:spPr>
          <a:xfrm>
            <a:off x="6586560" y="393552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14"/>
          <p:cNvSpPr/>
          <p:nvPr/>
        </p:nvSpPr>
        <p:spPr>
          <a:xfrm>
            <a:off x="7315200" y="393552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15"/>
          <p:cNvSpPr/>
          <p:nvPr/>
        </p:nvSpPr>
        <p:spPr>
          <a:xfrm>
            <a:off x="8042400" y="3935520"/>
            <a:ext cx="596880" cy="4125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16"/>
          <p:cNvSpPr/>
          <p:nvPr/>
        </p:nvSpPr>
        <p:spPr>
          <a:xfrm>
            <a:off x="6454800" y="3797280"/>
            <a:ext cx="2316240" cy="110160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17"/>
          <p:cNvSpPr/>
          <p:nvPr/>
        </p:nvSpPr>
        <p:spPr>
          <a:xfrm>
            <a:off x="7977240" y="3867120"/>
            <a:ext cx="727200" cy="54936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18"/>
          <p:cNvSpPr/>
          <p:nvPr/>
        </p:nvSpPr>
        <p:spPr>
          <a:xfrm>
            <a:off x="6454800" y="5002200"/>
            <a:ext cx="2316240" cy="72540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19"/>
          <p:cNvSpPr/>
          <p:nvPr/>
        </p:nvSpPr>
        <p:spPr>
          <a:xfrm>
            <a:off x="6388200" y="3728880"/>
            <a:ext cx="2449440" cy="212436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20"/>
          <p:cNvSpPr/>
          <p:nvPr/>
        </p:nvSpPr>
        <p:spPr>
          <a:xfrm>
            <a:off x="6521400" y="5032440"/>
            <a:ext cx="2183040" cy="279360"/>
          </a:xfrm>
          <a:prstGeom prst="roundRect">
            <a:avLst>
              <a:gd name="adj" fmla="val 16667"/>
            </a:avLst>
          </a:prstGeom>
          <a:solidFill>
            <a:srgbClr val="e5fbc7"/>
          </a:solidFill>
          <a:ln w="9360">
            <a:solidFill>
              <a:srgbClr val="78c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2"/>
          <p:cNvSpPr/>
          <p:nvPr/>
        </p:nvSpPr>
        <p:spPr>
          <a:xfrm>
            <a:off x="6521400" y="2773440"/>
            <a:ext cx="2183040" cy="342720"/>
          </a:xfrm>
          <a:prstGeom prst="roundRect">
            <a:avLst>
              <a:gd name="adj" fmla="val 16667"/>
            </a:avLst>
          </a:prstGeom>
          <a:solidFill>
            <a:srgbClr val="4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re meta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3"/>
          <p:cNvSpPr/>
          <p:nvPr/>
        </p:nvSpPr>
        <p:spPr>
          <a:xfrm>
            <a:off x="6586560" y="1913040"/>
            <a:ext cx="2052720" cy="3445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4"/>
          <p:cNvSpPr/>
          <p:nvPr/>
        </p:nvSpPr>
        <p:spPr>
          <a:xfrm>
            <a:off x="6586560" y="136224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25"/>
          <p:cNvSpPr/>
          <p:nvPr/>
        </p:nvSpPr>
        <p:spPr>
          <a:xfrm>
            <a:off x="7315200" y="136224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26"/>
          <p:cNvSpPr/>
          <p:nvPr/>
        </p:nvSpPr>
        <p:spPr>
          <a:xfrm>
            <a:off x="8042400" y="1362240"/>
            <a:ext cx="596880" cy="4125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ounded Rectangle 27"/>
          <p:cNvSpPr/>
          <p:nvPr/>
        </p:nvSpPr>
        <p:spPr>
          <a:xfrm>
            <a:off x="6454800" y="1225440"/>
            <a:ext cx="2316240" cy="110016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28"/>
          <p:cNvSpPr/>
          <p:nvPr/>
        </p:nvSpPr>
        <p:spPr>
          <a:xfrm>
            <a:off x="7977240" y="1293840"/>
            <a:ext cx="727200" cy="55080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ounded Rectangle 29"/>
          <p:cNvSpPr/>
          <p:nvPr/>
        </p:nvSpPr>
        <p:spPr>
          <a:xfrm>
            <a:off x="6454800" y="2428920"/>
            <a:ext cx="2316240" cy="72720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30"/>
          <p:cNvSpPr/>
          <p:nvPr/>
        </p:nvSpPr>
        <p:spPr>
          <a:xfrm>
            <a:off x="6388200" y="1155600"/>
            <a:ext cx="2449440" cy="212400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31"/>
          <p:cNvSpPr/>
          <p:nvPr/>
        </p:nvSpPr>
        <p:spPr>
          <a:xfrm>
            <a:off x="6521400" y="2459160"/>
            <a:ext cx="2183040" cy="279360"/>
          </a:xfrm>
          <a:prstGeom prst="roundRect">
            <a:avLst>
              <a:gd name="adj" fmla="val 16667"/>
            </a:avLst>
          </a:prstGeom>
          <a:solidFill>
            <a:srgbClr val="e5fbc7"/>
          </a:solidFill>
          <a:ln w="9360">
            <a:solidFill>
              <a:srgbClr val="78c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7188120" y="787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7207200" y="3398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1" descr="2images.jpg"/>
          <p:cNvPicPr/>
          <p:nvPr/>
        </p:nvPicPr>
        <p:blipFill>
          <a:blip r:embed="rId1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0" descr="server-system-r1208gz.jpg"/>
          <p:cNvPicPr/>
          <p:nvPr/>
        </p:nvPicPr>
        <p:blipFill>
          <a:blip r:embed="rId1"/>
          <a:stretch/>
        </p:blipFill>
        <p:spPr>
          <a:xfrm>
            <a:off x="7029360" y="4948200"/>
            <a:ext cx="1962360" cy="981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IE - Open Network Install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Zero-touch install of operating system on industry-standard gear running the Open Network Install Environment (ONIE)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ndustry standard gear comes with ONI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NIE provides the installer environment for auto-installation of network operating system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NIE discovers the operating system through USB, DHCP,..., and Cumulus Linux gets downloaded and installed on the system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2"/>
          <a:stretch/>
        </p:blipFill>
        <p:spPr>
          <a:xfrm>
            <a:off x="744480" y="4997520"/>
            <a:ext cx="3000600" cy="931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Onie-logo-green.png"/>
          <p:cNvPicPr/>
          <p:nvPr/>
        </p:nvPicPr>
        <p:blipFill>
          <a:blip r:embed="rId3"/>
          <a:stretch/>
        </p:blipFill>
        <p:spPr>
          <a:xfrm>
            <a:off x="1865160" y="4471920"/>
            <a:ext cx="1879920" cy="701640"/>
          </a:xfrm>
          <a:prstGeom prst="rect">
            <a:avLst/>
          </a:prstGeom>
          <a:ln w="0">
            <a:noFill/>
          </a:ln>
        </p:spPr>
      </p:pic>
      <p:cxnSp>
        <p:nvCxnSpPr>
          <p:cNvPr id="568" name="Straight Arrow Connector 32"/>
          <p:cNvCxnSpPr/>
          <p:nvPr/>
        </p:nvCxnSpPr>
        <p:spPr>
          <a:xfrm>
            <a:off x="3930120" y="5047920"/>
            <a:ext cx="2939400" cy="337320"/>
          </a:xfrm>
          <a:prstGeom prst="straightConnector1">
            <a:avLst/>
          </a:prstGeom>
          <a:ln w="38160">
            <a:solidFill>
              <a:srgbClr val="78c30e"/>
            </a:solidFill>
            <a:miter/>
            <a:tailEnd len="med" type="triangle" w="med"/>
          </a:ln>
        </p:spPr>
      </p:cxnSp>
      <p:sp>
        <p:nvSpPr>
          <p:cNvPr id="569" name="TextBox 44"/>
          <p:cNvSpPr/>
          <p:nvPr/>
        </p:nvSpPr>
        <p:spPr>
          <a:xfrm>
            <a:off x="4444560" y="4510080"/>
            <a:ext cx="335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Discover installer on management interf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B, URL from DHCP, URL from DNS-SD,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53"/>
          <p:cNvCxnSpPr/>
          <p:nvPr/>
        </p:nvCxnSpPr>
        <p:spPr>
          <a:xfrm flipV="1">
            <a:off x="3930120" y="5574600"/>
            <a:ext cx="2939400" cy="330840"/>
          </a:xfrm>
          <a:prstGeom prst="straightConnector1">
            <a:avLst/>
          </a:prstGeom>
          <a:ln w="38160">
            <a:solidFill>
              <a:srgbClr val="78c30e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1" name="TextBox 54"/>
          <p:cNvSpPr/>
          <p:nvPr/>
        </p:nvSpPr>
        <p:spPr>
          <a:xfrm>
            <a:off x="4474080" y="5872320"/>
            <a:ext cx="27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Download, run installer, and re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Vertical Scroll 1"/>
          <p:cNvSpPr/>
          <p:nvPr/>
        </p:nvSpPr>
        <p:spPr>
          <a:xfrm>
            <a:off x="7932600" y="4829040"/>
            <a:ext cx="1059120" cy="405000"/>
          </a:xfrm>
          <a:prstGeom prst="verticalScroll">
            <a:avLst>
              <a:gd name="adj" fmla="val 12500"/>
            </a:avLst>
          </a:prstGeom>
          <a:solidFill>
            <a:srgbClr val="ffeed0"/>
          </a:solidFill>
          <a:ln w="9360">
            <a:solidFill>
              <a:srgbClr val="ffa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ie-insta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1" descr="2images.jpg"/>
          <p:cNvPicPr/>
          <p:nvPr/>
        </p:nvPicPr>
        <p:blipFill>
          <a:blip r:embed="rId4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images.jpg"/>
          <p:cNvPicPr/>
          <p:nvPr/>
        </p:nvPicPr>
        <p:blipFill>
          <a:blip r:embed="rId5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575" name="Date Placeholder 2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D7918-5DD9-41F2-A3F1-9869611A079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ounded Rectangle 34"/>
          <p:cNvSpPr/>
          <p:nvPr/>
        </p:nvSpPr>
        <p:spPr>
          <a:xfrm>
            <a:off x="7413480" y="2147760"/>
            <a:ext cx="1506600" cy="3395880"/>
          </a:xfrm>
          <a:custGeom>
            <a:avLst/>
            <a:gdLst>
              <a:gd name="textAreaLeft" fmla="*/ 73440 w 1506600"/>
              <a:gd name="textAreaRight" fmla="*/ 1433160 w 1506600"/>
              <a:gd name="textAreaTop" fmla="*/ 73440 h 3395880"/>
              <a:gd name="textAreaBottom" fmla="*/ 3322440 h 3395880"/>
            </a:gdLst>
            <a:ahLst/>
            <a:rect l="textAreaLeft" t="textAreaTop" r="textAreaRight" b="textAreaBottom"/>
            <a:pathLst>
              <a:path w="21600" h="48680">
                <a:moveTo>
                  <a:pt x="3600" y="0"/>
                </a:moveTo>
                <a:arcTo wR="3600" hR="3600" stAng="16200000" swAng="-5400000"/>
                <a:lnTo>
                  <a:pt x="0" y="45080"/>
                </a:lnTo>
                <a:arcTo wR="3600" hR="3600" stAng="10800000" swAng="-5400000"/>
                <a:lnTo>
                  <a:pt x="18000" y="48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7dde00">
                  <a:alpha val="64313"/>
                </a:srgbClr>
              </a:gs>
            </a:gsLst>
            <a:lin ang="5400000"/>
          </a:gradFill>
          <a:ln w="9360">
            <a:solidFill>
              <a:srgbClr val="76c30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ontent Placeholder 5"/>
          <p:cNvSpPr/>
          <p:nvPr/>
        </p:nvSpPr>
        <p:spPr>
          <a:xfrm>
            <a:off x="7031160" y="1652760"/>
            <a:ext cx="211284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Geneva"/>
              </a:rPr>
              <a:t>Topology grap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80000"/>
              </a:lnSpc>
              <a:spcBef>
                <a:spcPts val="374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80000"/>
              </a:lnSpc>
              <a:spcBef>
                <a:spcPts val="374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Geneva"/>
              </a:rPr>
              <a:t>Graph G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1 – M1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2 – M2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3 – M3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4 – M4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1 – M1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2 – M2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3 – M3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4 – M4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M1:p1 – T1:p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M1:p2 – T2:p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M4:p2 – T4:p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826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ae00"/>
                </a:solidFill>
                <a:latin typeface="Arial"/>
                <a:ea typeface="Genev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774"/>
              </a:spcBef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262626"/>
                </a:solidFill>
                <a:latin typeface="Arial"/>
              </a:rPr>
              <a:t>Goal: Operational simplicity, reduced Operator errors</a:t>
            </a:r>
            <a:endParaRPr b="1" lang="en-US" sz="2100" spc="-1" strike="noStrike">
              <a:solidFill>
                <a:srgbClr val="262626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Verify connectivity per cabling plan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Bring up routing adjacency only if cabling test pass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lective actions on link up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51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74"/>
              </a:spcBef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Arial"/>
              </a:rPr>
              <a:t>How? Network topology specified via DOT language and distributed to all nodes</a:t>
            </a:r>
            <a:endParaRPr b="1" lang="en-US" sz="2100" spc="-1" strike="noStrike">
              <a:solidFill>
                <a:srgbClr val="262626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Each node determines its relevant inform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se LLDP to verify connectivity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Logs error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aemon executes a set of scripts on topology pass and a different set of scripts on topology fai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Content Placeholder 7"/>
          <p:cNvSpPr/>
          <p:nvPr/>
        </p:nvSpPr>
        <p:spPr>
          <a:xfrm>
            <a:off x="483876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"/>
          <p:cNvGrpSpPr/>
          <p:nvPr/>
        </p:nvGrpSpPr>
        <p:grpSpPr>
          <a:xfrm>
            <a:off x="4838760" y="2395440"/>
            <a:ext cx="2360520" cy="1905120"/>
            <a:chOff x="4838760" y="2395440"/>
            <a:chExt cx="2360520" cy="1905120"/>
          </a:xfrm>
        </p:grpSpPr>
        <p:sp>
          <p:nvSpPr>
            <p:cNvPr id="583" name="Rectangle 6"/>
            <p:cNvSpPr/>
            <p:nvPr/>
          </p:nvSpPr>
          <p:spPr>
            <a:xfrm>
              <a:off x="6024600" y="239544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7"/>
            <p:cNvSpPr/>
            <p:nvPr/>
          </p:nvSpPr>
          <p:spPr>
            <a:xfrm>
              <a:off x="5554800" y="2404800"/>
              <a:ext cx="35712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8"/>
            <p:cNvSpPr/>
            <p:nvPr/>
          </p:nvSpPr>
          <p:spPr>
            <a:xfrm>
              <a:off x="5553000" y="325440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9"/>
            <p:cNvSpPr/>
            <p:nvPr/>
          </p:nvSpPr>
          <p:spPr>
            <a:xfrm>
              <a:off x="4838760" y="3274920"/>
              <a:ext cx="35712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0"/>
            <p:cNvSpPr/>
            <p:nvPr/>
          </p:nvSpPr>
          <p:spPr>
            <a:xfrm>
              <a:off x="5559480" y="390204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1"/>
            <p:cNvSpPr/>
            <p:nvPr/>
          </p:nvSpPr>
          <p:spPr>
            <a:xfrm>
              <a:off x="4844880" y="392112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12"/>
            <p:cNvSpPr/>
            <p:nvPr/>
          </p:nvSpPr>
          <p:spPr>
            <a:xfrm>
              <a:off x="5016240" y="3652920"/>
              <a:ext cx="79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13"/>
            <p:cNvSpPr/>
            <p:nvPr/>
          </p:nvSpPr>
          <p:spPr>
            <a:xfrm>
              <a:off x="5016240" y="3652920"/>
              <a:ext cx="7207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14"/>
            <p:cNvSpPr/>
            <p:nvPr/>
          </p:nvSpPr>
          <p:spPr>
            <a:xfrm>
              <a:off x="5730840" y="3633840"/>
              <a:ext cx="61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15"/>
            <p:cNvSpPr/>
            <p:nvPr/>
          </p:nvSpPr>
          <p:spPr>
            <a:xfrm flipH="1">
              <a:off x="5024160" y="3652920"/>
              <a:ext cx="69840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Straight Connector 16"/>
            <p:cNvSpPr/>
            <p:nvPr/>
          </p:nvSpPr>
          <p:spPr>
            <a:xfrm flipH="1">
              <a:off x="5015880" y="2782800"/>
              <a:ext cx="716040" cy="49212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7"/>
            <p:cNvSpPr/>
            <p:nvPr/>
          </p:nvSpPr>
          <p:spPr>
            <a:xfrm flipH="1">
              <a:off x="5730840" y="2782800"/>
              <a:ext cx="1440" cy="47160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8"/>
            <p:cNvSpPr/>
            <p:nvPr/>
          </p:nvSpPr>
          <p:spPr>
            <a:xfrm>
              <a:off x="5732280" y="2782800"/>
              <a:ext cx="1281240" cy="45252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traight Connector 19"/>
            <p:cNvSpPr/>
            <p:nvPr/>
          </p:nvSpPr>
          <p:spPr>
            <a:xfrm>
              <a:off x="5748480" y="2822400"/>
              <a:ext cx="550800" cy="433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20"/>
            <p:cNvSpPr/>
            <p:nvPr/>
          </p:nvSpPr>
          <p:spPr>
            <a:xfrm flipH="1">
              <a:off x="5016240" y="2774880"/>
              <a:ext cx="1187280" cy="5000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21"/>
            <p:cNvSpPr/>
            <p:nvPr/>
          </p:nvSpPr>
          <p:spPr>
            <a:xfrm flipH="1">
              <a:off x="5652720" y="2773080"/>
              <a:ext cx="717480" cy="460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22"/>
            <p:cNvSpPr/>
            <p:nvPr/>
          </p:nvSpPr>
          <p:spPr>
            <a:xfrm>
              <a:off x="6203880" y="2803320"/>
              <a:ext cx="95040" cy="45252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traight Connector 23"/>
            <p:cNvSpPr/>
            <p:nvPr/>
          </p:nvSpPr>
          <p:spPr>
            <a:xfrm>
              <a:off x="6203880" y="2774880"/>
              <a:ext cx="952560" cy="50148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4"/>
            <p:cNvSpPr/>
            <p:nvPr/>
          </p:nvSpPr>
          <p:spPr>
            <a:xfrm>
              <a:off x="6836040" y="323532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5"/>
            <p:cNvSpPr/>
            <p:nvPr/>
          </p:nvSpPr>
          <p:spPr>
            <a:xfrm>
              <a:off x="6120000" y="3255840"/>
              <a:ext cx="35856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6"/>
            <p:cNvSpPr/>
            <p:nvPr/>
          </p:nvSpPr>
          <p:spPr>
            <a:xfrm>
              <a:off x="6842160" y="3882960"/>
              <a:ext cx="35712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7"/>
            <p:cNvSpPr/>
            <p:nvPr/>
          </p:nvSpPr>
          <p:spPr>
            <a:xfrm>
              <a:off x="6127920" y="390204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28"/>
            <p:cNvSpPr/>
            <p:nvPr/>
          </p:nvSpPr>
          <p:spPr>
            <a:xfrm>
              <a:off x="6299280" y="3633840"/>
              <a:ext cx="79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29"/>
            <p:cNvSpPr/>
            <p:nvPr/>
          </p:nvSpPr>
          <p:spPr>
            <a:xfrm>
              <a:off x="6299280" y="3633840"/>
              <a:ext cx="722160" cy="23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traight Connector 30"/>
            <p:cNvSpPr/>
            <p:nvPr/>
          </p:nvSpPr>
          <p:spPr>
            <a:xfrm>
              <a:off x="7013880" y="3614760"/>
              <a:ext cx="79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31"/>
            <p:cNvSpPr/>
            <p:nvPr/>
          </p:nvSpPr>
          <p:spPr>
            <a:xfrm flipH="1">
              <a:off x="6307200" y="3633840"/>
              <a:ext cx="69696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5"/>
            <p:cNvSpPr/>
            <p:nvPr/>
          </p:nvSpPr>
          <p:spPr>
            <a:xfrm>
              <a:off x="5584320" y="2447640"/>
              <a:ext cx="32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Straight Connector 5"/>
          <p:cNvSpPr/>
          <p:nvPr/>
        </p:nvSpPr>
        <p:spPr>
          <a:xfrm>
            <a:off x="4495680" y="1300320"/>
            <a:ext cx="0" cy="4593960"/>
          </a:xfrm>
          <a:prstGeom prst="line">
            <a:avLst/>
          </a:prstGeom>
          <a:ln w="25560">
            <a:solidFill>
              <a:srgbClr val="78c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5" descr="2images.jpg"/>
          <p:cNvPicPr/>
          <p:nvPr/>
        </p:nvPicPr>
        <p:blipFill>
          <a:blip r:embed="rId1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612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C8397-EBD9-436C-A29D-3ACE6BC43C4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Content Placeholder 7"/>
          <p:cNvSpPr/>
          <p:nvPr/>
        </p:nvSpPr>
        <p:spPr>
          <a:xfrm>
            <a:off x="2189160" y="1751040"/>
            <a:ext cx="160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4"/>
          <p:cNvSpPr/>
          <p:nvPr/>
        </p:nvSpPr>
        <p:spPr>
          <a:xfrm>
            <a:off x="3110040" y="2597040"/>
            <a:ext cx="357120" cy="37944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5"/>
          <p:cNvSpPr/>
          <p:nvPr/>
        </p:nvSpPr>
        <p:spPr>
          <a:xfrm>
            <a:off x="2394000" y="2617920"/>
            <a:ext cx="358560" cy="37764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3116160" y="3244680"/>
            <a:ext cx="357120" cy="37800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7"/>
          <p:cNvSpPr/>
          <p:nvPr/>
        </p:nvSpPr>
        <p:spPr>
          <a:xfrm>
            <a:off x="2401920" y="3263760"/>
            <a:ext cx="357120" cy="37944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28"/>
          <p:cNvSpPr/>
          <p:nvPr/>
        </p:nvSpPr>
        <p:spPr>
          <a:xfrm>
            <a:off x="2573280" y="2995560"/>
            <a:ext cx="792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traight Connector 29"/>
          <p:cNvSpPr/>
          <p:nvPr/>
        </p:nvSpPr>
        <p:spPr>
          <a:xfrm>
            <a:off x="2573280" y="2995560"/>
            <a:ext cx="722520" cy="23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30"/>
          <p:cNvSpPr/>
          <p:nvPr/>
        </p:nvSpPr>
        <p:spPr>
          <a:xfrm>
            <a:off x="3287880" y="2976480"/>
            <a:ext cx="792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31"/>
          <p:cNvSpPr/>
          <p:nvPr/>
        </p:nvSpPr>
        <p:spPr>
          <a:xfrm flipH="1">
            <a:off x="2581200" y="2995560"/>
            <a:ext cx="696960" cy="24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50BA7-887B-4308-B861-772775BC19C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"/>
          <p:cNvSpPr/>
          <p:nvPr/>
        </p:nvSpPr>
        <p:spPr>
          <a:xfrm>
            <a:off x="4876560" y="1430280"/>
            <a:ext cx="25416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raph G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spine0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0:swp1 -&gt; leaf0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0:swp2 -&gt; leaf1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spine1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1:swp1 -&gt; leaf0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1:swp2 -&gt; leaf1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leaf0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0:swp1 -&gt; spine0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0:swp2 -&gt; spine1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leaf1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1:swp1 -&gt; spine0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1:swp2 -&gt; spine1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2images.jpg"/>
          <p:cNvPicPr/>
          <p:nvPr/>
        </p:nvPicPr>
        <p:blipFill>
          <a:blip r:embed="rId1"/>
          <a:stretch/>
        </p:blipFill>
        <p:spPr>
          <a:xfrm>
            <a:off x="0" y="1260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F2895-2581-4F2A-AED5-AB7BD941E43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262800" y="3306600"/>
            <a:ext cx="8593200" cy="277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cumulus@S1:~# ptmc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Port   Status Expected Nbr         Observed Nbr         Last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1   pass   M1:swp3              M1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2   pass   M2:swp3              M2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3   pass   M3:swp3              M3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4   pass   M4:swp3              M4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5   fail   M5:swp3              M4:swp4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cumulus@S1:~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7116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774"/>
              </a:spcBef>
              <a:buClr>
                <a:srgbClr val="40404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ritten in C and Pyth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774"/>
              </a:spcBef>
              <a:buClr>
                <a:srgbClr val="40404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municates with LLDPD (based on </a:t>
            </a:r>
            <a:r>
              <a:rPr b="1" lang="en-US" sz="2400" spc="-1" strike="noStrike" u="sng">
                <a:solidFill>
                  <a:srgbClr val="3e9919"/>
                </a:solidFill>
                <a:uFillTx/>
                <a:latin typeface="Calibri"/>
                <a:hlinkClick r:id="rId1"/>
              </a:rPr>
              <a:t>https://github.com/vincentbernat/lldpd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08520" indent="-30852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635" name="Picture 11" descr="2images.jpg"/>
          <p:cNvPicPr/>
          <p:nvPr/>
        </p:nvPicPr>
        <p:blipFill>
          <a:blip r:embed="rId2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images.jpg"/>
          <p:cNvPicPr/>
          <p:nvPr/>
        </p:nvPicPr>
        <p:blipFill>
          <a:blip r:embed="rId3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9613A-C62C-4007-B6CC-7A315CD8AD9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204840" y="1054080"/>
            <a:ext cx="4176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nteroper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y device running an LLDP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Routing adjacencies can be brought by the device running P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4365720" y="1090440"/>
            <a:ext cx="4752720" cy="1919160"/>
          </a:xfrm>
          <a:prstGeom prst="rect">
            <a:avLst/>
          </a:prstGeom>
          <a:solidFill>
            <a:srgbClr val="d9d9d9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digraph G {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1 -&gt; S2:swp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2 -&gt; S2:swp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3 -&gt; "procurve1.lab":2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4 -&gt; "procurve1.lab":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5 -&gt; "cisco1.lab":"GigabitEthernet0/1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6 -&gt; "jmx480":"xe-0/0/0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7 -&gt; webserver1:eth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8 -&gt; webserver1:eth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"/>
          <p:cNvSpPr/>
          <p:nvPr/>
        </p:nvSpPr>
        <p:spPr>
          <a:xfrm>
            <a:off x="457200" y="3213000"/>
            <a:ext cx="8242200" cy="398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cumulus@S1:~# ptmc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Port   Status Expected Nbr         Observed Nbr         Last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1   pass   S2:swp1              S2:swp1              17m: 2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2   pass   S2:swp2              S2:swp2              17m: 2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3   pass   procurve1.lab:21     procurve1.lab:21     17m: 1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4   pass   procurve1.lab:22     procurve1.lab:22     17m: 1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5   pass   cisco1.lab:GigabitEthernet0/1 cisco1lab:GigabitEthernet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6   pass   jmx480.lab:xe-0/0/0   jmx480.lab:xe-0/0/0   17m: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7   pass   webserver1:eth0      webserver1:eth0      17m: 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8   pass   webserver1:eth1      webserver1:eth1      17m: 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1" descr="2images.jpg"/>
          <p:cNvPicPr/>
          <p:nvPr/>
        </p:nvPicPr>
        <p:blipFill>
          <a:blip r:embed="rId1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0256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What are we missing?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Hardware acceleration of the networking forwarding path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63408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3BBE9-7B57-457F-8843-35467FF51DB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Modern datacenters adoption of new technologi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application demands push protocol scale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physical (100Gbps distance, speed of light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administrative (layer 8) resourc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DN”, OpenFlow, network virtualization, configuration management, and many other efforts are throwing a wrench against traditional networking practic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73D86-232B-4945-966A-A5049D62EAF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way of hardware acceler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5740E-6BA6-42BC-8979-1E9661B0549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876240" y="841320"/>
            <a:ext cx="7467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87360" y="3205080"/>
            <a:ext cx="65692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"/>
          <p:cNvSpPr/>
          <p:nvPr/>
        </p:nvSpPr>
        <p:spPr>
          <a:xfrm>
            <a:off x="1973160" y="466560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nat@cumulusnetworks.com | @natmo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ypical Network Operating System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(switch and/or router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tructured as “black box” 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lnSpc>
                <a:spcPct val="100000"/>
              </a:lnSpc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ndale Mono"/>
                <a:ea typeface="Andale Mono"/>
              </a:rPr>
              <a:t>CLI != API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osed development mod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iagnostics “under the hood” difficult to se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licated management tool chain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NMP MIB’s… hel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creen scraping… regex’s change on OS vers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Arcane / low adoption scripting language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ot geared for rapid spin-up / spin-down of resourc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itional networ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03551-2BDF-4477-9ABB-90F4BA8A6A5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P-based network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imited adoption - large scale L2, InfiniBand, ATM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nfiguration management / automa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olicy enforcemen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Rapid spin-up / spin-dow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ew breed of application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East-West vs. North-South flow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0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D8DC-AC2E-414C-8563-0BE4B146409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 datacenter network roo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ominate server platform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Well established ecosystem of distributions, best practices, knowledg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pen well documented API, large selection of language interpreter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Excellent networking support - IPv6, NAT’s, QoS, account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Vibrant community which fuels rapid innova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Heavy automation framework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pen nature has facilitated huge management tool-chain progress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E9E00-214E-435C-97EC-CE6E3121CD5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10256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GNU/Linux is a great fit as the OS for </a:t>
            </a:r>
            <a:r>
              <a:rPr b="0" i="1" lang="en-US" sz="3600" spc="-1" strike="noStrike">
                <a:solidFill>
                  <a:srgbClr val="595959"/>
                </a:solidFill>
                <a:latin typeface="Arial"/>
              </a:rPr>
              <a:t>not just </a:t>
            </a: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servers but also routers and switches in the modern data center</a:t>
            </a:r>
            <a:endParaRPr b="0" lang="en-US" sz="3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663408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4CFAC-6C3D-4604-A5D4-B46903BC489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B90BC-8BE1-4047-BB8D-E4A9238BFF2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426960" y="1251000"/>
            <a:ext cx="3465720" cy="4267080"/>
          </a:xfrm>
          <a:custGeom>
            <a:avLst/>
            <a:gdLst>
              <a:gd name="textAreaLeft" fmla="*/ 169200 w 3465720"/>
              <a:gd name="textAreaRight" fmla="*/ 3296520 w 3465720"/>
              <a:gd name="textAreaTop" fmla="*/ 169200 h 4267080"/>
              <a:gd name="textAreaBottom" fmla="*/ 4097880 h 4267080"/>
            </a:gdLst>
            <a:ahLst/>
            <a:rect l="textAreaLeft" t="textAreaTop" r="textAreaRight" b="textAreaBottom"/>
            <a:pathLst>
              <a:path w="21600" h="26594">
                <a:moveTo>
                  <a:pt x="3600" y="0"/>
                </a:moveTo>
                <a:arcTo wR="3600" hR="3600" stAng="16200000" swAng="-5400000"/>
                <a:lnTo>
                  <a:pt x="0" y="22994"/>
                </a:lnTo>
                <a:arcTo wR="3600" hR="3600" stAng="10800000" swAng="-5400000"/>
                <a:lnTo>
                  <a:pt x="18000" y="265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c6d9f1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2717640" y="1251000"/>
            <a:ext cx="4316400" cy="426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ff8a"/>
              </a:gs>
              <a:gs pos="100000">
                <a:srgbClr val="7dde00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4836960" y="1251000"/>
            <a:ext cx="3648240" cy="4267080"/>
          </a:xfrm>
          <a:custGeom>
            <a:avLst/>
            <a:gdLst>
              <a:gd name="textAreaLeft" fmla="*/ 177840 w 3648240"/>
              <a:gd name="textAreaRight" fmla="*/ 3470400 w 3648240"/>
              <a:gd name="textAreaTop" fmla="*/ 177840 h 4267080"/>
              <a:gd name="textAreaBottom" fmla="*/ 4089240 h 4267080"/>
            </a:gdLst>
            <a:ahLst/>
            <a:rect l="textAreaLeft" t="textAreaTop" r="textAreaRight" b="textAreaBottom"/>
            <a:pathLst>
              <a:path w="21600" h="25264">
                <a:moveTo>
                  <a:pt x="3600" y="0"/>
                </a:moveTo>
                <a:arcTo wR="3600" hR="3600" stAng="16200000" swAng="-5400000"/>
                <a:lnTo>
                  <a:pt x="0" y="21664"/>
                </a:lnTo>
                <a:arcTo wR="3600" hR="3600" stAng="10800000" swAng="-5400000"/>
                <a:lnTo>
                  <a:pt x="18000" y="25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7fe8a0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975200" y="267192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as the embedded OS: process and memory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7176960" y="3494160"/>
            <a:ext cx="1606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68760" y="2717640"/>
            <a:ext cx="212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 OS with process and memory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76360" y="2720880"/>
            <a:ext cx="170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l OS,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426960" y="204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thic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2749680" y="2043000"/>
            <a:ext cx="21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l-tim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4975200" y="2027160"/>
            <a:ext cx="20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-based 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60520" y="4675320"/>
            <a:ext cx="2103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IOS, C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4965840" y="3906720"/>
            <a:ext cx="225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3008160" y="4649760"/>
            <a:ext cx="1690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24520" y="4686480"/>
            <a:ext cx="169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NX-OS, 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8"/>
          <p:cNvSpPr/>
          <p:nvPr/>
        </p:nvSpPr>
        <p:spPr>
          <a:xfrm>
            <a:off x="7189920" y="1251000"/>
            <a:ext cx="1593720" cy="4267080"/>
          </a:xfrm>
          <a:custGeom>
            <a:avLst/>
            <a:gdLst>
              <a:gd name="textAreaLeft" fmla="*/ 77760 w 1593720"/>
              <a:gd name="textAreaRight" fmla="*/ 1515960 w 1593720"/>
              <a:gd name="textAreaTop" fmla="*/ 77760 h 4267080"/>
              <a:gd name="textAreaBottom" fmla="*/ 4189320 h 4267080"/>
            </a:gdLst>
            <a:ahLst/>
            <a:rect l="textAreaLeft" t="textAreaTop" r="textAreaRight" b="textAreaBottom"/>
            <a:pathLst>
              <a:path w="21600" h="57824">
                <a:moveTo>
                  <a:pt x="3600" y="0"/>
                </a:moveTo>
                <a:arcTo wR="3600" hR="3600" stAng="16200000" swAng="-5400000"/>
                <a:lnTo>
                  <a:pt x="0" y="54224"/>
                </a:lnTo>
                <a:arcTo wR="3600" hR="3600" stAng="10800000" swAng="-5400000"/>
                <a:lnTo>
                  <a:pt x="18000" y="57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147031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"/>
          <p:cNvSpPr/>
          <p:nvPr/>
        </p:nvSpPr>
        <p:spPr>
          <a:xfrm>
            <a:off x="7248600" y="4653000"/>
            <a:ext cx="16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ulus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0"/>
          <p:cNvSpPr/>
          <p:nvPr/>
        </p:nvSpPr>
        <p:spPr>
          <a:xfrm>
            <a:off x="7236000" y="2100240"/>
            <a:ext cx="21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7243920" y="2716200"/>
            <a:ext cx="209700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ve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2"/>
          <p:cNvSpPr/>
          <p:nvPr/>
        </p:nvSpPr>
        <p:spPr>
          <a:xfrm>
            <a:off x="2733840" y="3906720"/>
            <a:ext cx="225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573120" y="3906720"/>
            <a:ext cx="22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ng System Ev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0256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What advantages does this provide?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63408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345FF-0D18-47C3-BBE2-2CA0176CEAF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3852720" y="1585800"/>
            <a:ext cx="2678400" cy="1573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Routing 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Quagga (many forks), BIRD, Xorp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spcAft>
                <a:spcPts val="601"/>
              </a:spcAft>
              <a:buClr>
                <a:srgbClr val="71b6d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ae00"/>
                </a:solidFill>
                <a:latin typeface="Arial"/>
              </a:rPr>
              <a:t>OSPF unnumbered</a:t>
            </a:r>
            <a:endParaRPr b="0" lang="en-US" sz="1600" spc="-1" strike="noStrike">
              <a:solidFill>
                <a:srgbClr val="ffae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spcAft>
                <a:spcPts val="601"/>
              </a:spcAft>
              <a:buClr>
                <a:srgbClr val="71b6d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ae00"/>
                </a:solidFill>
                <a:latin typeface="Arial"/>
              </a:rPr>
              <a:t>Looking glass</a:t>
            </a:r>
            <a:endParaRPr b="0" lang="en-US" sz="1600" spc="-1" strike="noStrike">
              <a:solidFill>
                <a:srgbClr val="ffae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ffae00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ridging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Kernel STP, MSTPD (BDPU Guard, Bridge Assurance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iscovery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LDAP, Open-LLDP, LLDPD (many implement CDP, FDP, etc.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ource L2 &amp; L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92292-49BD-4E1C-9442-45E1EF98207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727680" y="1270080"/>
            <a:ext cx="1737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23:37:01Z</dcterms:created>
  <dc:creator>Nat Morris</dc:creator>
  <dc:description/>
  <cp:keywords/>
  <dc:language>en-US</dc:language>
  <cp:lastModifiedBy>Nat Morris</cp:lastModifiedBy>
  <dcterms:modified xsi:type="dcterms:W3CDTF">2013-10-16T05:34:18Z</dcterms:modified>
  <cp:revision>803</cp:revision>
  <dc:subject/>
  <dc:title>Over coming traditional network limitations with open source</dc:title>
</cp:coreProperties>
</file>