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A8B5-F16D-47E2-A371-A24E460881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9A44-20B1-438E-BF14-E5A3FEE919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321F1-8560-498C-8850-E6AAD25F81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B9AF-0F52-4C66-BA8A-FD56DA2091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58AB-7B67-4F1B-91E1-56F6216C1D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6284-F3B7-4A65-BF01-CF6CD4E437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A45E-AD1A-4DEF-9FDA-792A9EE5D6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7707-8F49-4FA2-8685-28DB59D2B6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EEA4-2066-47A9-AA81-4BDC0A5CD3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5C9D-554A-41C3-BFEE-219145B214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BDB9-AD37-4596-A971-E7E8D9ED11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01366-156A-4B50-883C-29097C5DB3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Line 2"/>
          <p:cNvSpPr/>
          <p:nvPr/>
        </p:nvSpPr>
        <p:spPr>
          <a:xfrm>
            <a:off x="6019920" y="5460840"/>
            <a:ext cx="7010280" cy="0"/>
          </a:xfrm>
          <a:prstGeom prst="line">
            <a:avLst/>
          </a:prstGeom>
          <a:ln w="12600">
            <a:solidFill>
              <a:srgbClr val="005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1" marL="343080" indent="-34308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2" marL="343080" indent="-343080">
              <a:buClr>
                <a:srgbClr val="00589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3" marL="343080" indent="-34308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4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5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6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3" marL="1917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4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5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6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23960" y="925848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t">
            <a:noAutofit/>
          </a:bodyPr>
          <a:p>
            <a:pPr marL="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895"/>
                </a:solidFill>
                <a:latin typeface="Helvetica Neue"/>
                <a:ea typeface="Helvetica Neue"/>
              </a:rPr>
              <a:t>Andrea Cima, 16 October 2013</a:t>
            </a:r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0553760" y="8807400"/>
            <a:ext cx="1841400" cy="806400"/>
          </a:xfrm>
          <a:prstGeom prst="rect">
            <a:avLst/>
          </a:prstGeom>
          <a:ln w="0">
            <a:noFill/>
          </a:ln>
        </p:spPr>
      </p:pic>
      <p:sp>
        <p:nvSpPr>
          <p:cNvPr id="44" name="Line 5"/>
          <p:cNvSpPr/>
          <p:nvPr/>
        </p:nvSpPr>
        <p:spPr>
          <a:xfrm>
            <a:off x="12398400" y="8877240"/>
            <a:ext cx="3240" cy="604800"/>
          </a:xfrm>
          <a:prstGeom prst="line">
            <a:avLst/>
          </a:prstGeom>
          <a:ln w="1260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5" name="Line 6"/>
          <p:cNvSpPr/>
          <p:nvPr/>
        </p:nvSpPr>
        <p:spPr>
          <a:xfrm>
            <a:off x="736560" y="1244520"/>
            <a:ext cx="12268080" cy="0"/>
          </a:xfrm>
          <a:prstGeom prst="line">
            <a:avLst/>
          </a:prstGeom>
          <a:ln w="2556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3EE9-0610-4E05-AF6B-7326CEFC894D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6381720" y="1128600"/>
            <a:ext cx="5321160" cy="7480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rcRect l="80667" t="87505" r="292" b="522"/>
          <a:stretch/>
        </p:blipFill>
        <p:spPr>
          <a:xfrm>
            <a:off x="10490040" y="8534520"/>
            <a:ext cx="2476800" cy="1168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ipe.net/ripe/docs/ripe-592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labs.ripe.net/Members/denis/making-more-16-bit-as-numbers-available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Registration Services Feedback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894"/>
                </a:solidFill>
                <a:latin typeface="Helvetica Neue"/>
              </a:rPr>
              <a:t>Andrea Cima</a:t>
            </a:r>
            <a:endParaRPr b="0" lang="en-US" sz="28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894"/>
                </a:solidFill>
                <a:latin typeface="Helvetica Neue"/>
              </a:rPr>
              <a:t>RIPE NCC</a:t>
            </a:r>
            <a:endParaRPr b="0" lang="en-US" sz="28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894"/>
                </a:solidFill>
                <a:latin typeface="Helvetica Neue"/>
              </a:rPr>
              <a:t>RIPE 67 - Athens</a:t>
            </a:r>
            <a:endParaRPr b="0" lang="en-US" sz="2800" spc="-1" strike="noStrike">
              <a:solidFill>
                <a:srgbClr val="005894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4"/>
                </a:solidFill>
                <a:latin typeface="Helvetica Neue Light"/>
              </a:rPr>
              <a:t>Unadvertised AS Numbers</a:t>
            </a:r>
            <a:endParaRPr b="0" lang="en-US" sz="48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he global supply of 16-bit AS Numbers is being exhausted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here are ± 5000 assigned but unadvertised 16-bit AS Numbers in the RIPE region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“</a:t>
            </a:r>
            <a:r>
              <a:rPr b="0" i="1" lang="en-US" sz="3200" spc="-1" strike="noStrike">
                <a:solidFill>
                  <a:srgbClr val="005894"/>
                </a:solidFill>
                <a:latin typeface="Helvetica Neue Light"/>
              </a:rPr>
              <a:t>If an organisation no longer uses the AS Number, it must be returned to the public pool of AS Numbers.</a:t>
            </a: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”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894"/>
                </a:solidFill>
                <a:latin typeface="Helvetica Neue Light"/>
              </a:rPr>
              <a:t>- “Autonomous System (AS) Number Assignment Policies” (ripe-525)</a:t>
            </a:r>
            <a:endParaRPr b="0" lang="en-US" sz="30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725C-DF71-4E26-8111-51EA07560AB7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4"/>
                </a:solidFill>
                <a:latin typeface="Helvetica Neue Light"/>
              </a:rPr>
              <a:t>Unadvertised AS Numbers</a:t>
            </a:r>
            <a:endParaRPr b="0" lang="en-US" sz="48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Potential options: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1035000" indent="-5144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The RIPE NCC asks holders of unadvertised ASNs if these are unused. If this is the case, the holder is requested to start using the ASN within a reasonable timeframe (3 months?) or return it to the available pool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1035000" indent="-5144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The RIPE NCC does not contact the holders of unadvertised ASNs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164D-A1B4-4D55-9108-0FF56EE15B26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4"/>
                </a:solidFill>
                <a:latin typeface="Helvetica Neue Light"/>
              </a:rPr>
              <a:t>Transfer of PI Addresses</a:t>
            </a:r>
            <a:endParaRPr b="0" lang="en-US" sz="48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he RIPE NCC has noticed a sharp increase in requests for transfers of PI address block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Policy does not support transfers of PI address spac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1024560" indent="-5090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5894"/>
                </a:solidFill>
                <a:latin typeface="Helvetica Neue Light"/>
              </a:rPr>
              <a:t>“</a:t>
            </a:r>
            <a:r>
              <a:rPr b="0" i="1" lang="en-US" sz="3000" spc="-1" strike="noStrike">
                <a:solidFill>
                  <a:srgbClr val="005894"/>
                </a:solidFill>
                <a:latin typeface="Helvetica Neue Light"/>
              </a:rPr>
              <a:t>Any LIR is allowed to </a:t>
            </a:r>
            <a:r>
              <a:rPr b="0" i="1" lang="en-US" sz="3000" spc="-1" strike="noStrike" u="sng">
                <a:solidFill>
                  <a:srgbClr val="005894"/>
                </a:solidFill>
                <a:uFillTx/>
                <a:latin typeface="Helvetica Neue Light"/>
              </a:rPr>
              <a:t>re-allocate</a:t>
            </a:r>
            <a:r>
              <a:rPr b="0" i="1" lang="en-US" sz="3000" spc="-1" strike="noStrike">
                <a:solidFill>
                  <a:srgbClr val="005894"/>
                </a:solidFill>
                <a:latin typeface="Helvetica Neue Light"/>
              </a:rPr>
              <a:t> complete or partial blocks of IPv4 address space that were previously </a:t>
            </a:r>
            <a:r>
              <a:rPr b="0" i="1" lang="en-US" sz="3000" spc="-1" strike="noStrike" u="sng">
                <a:solidFill>
                  <a:srgbClr val="005894"/>
                </a:solidFill>
                <a:uFillTx/>
                <a:latin typeface="Helvetica Neue Light"/>
              </a:rPr>
              <a:t>allocated</a:t>
            </a:r>
            <a:r>
              <a:rPr b="0" lang="en-US" sz="3000" spc="-1" strike="noStrike">
                <a:solidFill>
                  <a:srgbClr val="005894"/>
                </a:solidFill>
                <a:latin typeface="Helvetica Neue Light"/>
              </a:rPr>
              <a:t> </a:t>
            </a:r>
            <a:r>
              <a:rPr b="0" i="1" lang="en-US" sz="3000" spc="-1" strike="noStrike">
                <a:solidFill>
                  <a:srgbClr val="005894"/>
                </a:solidFill>
                <a:latin typeface="Helvetica Neue Light"/>
              </a:rPr>
              <a:t>to them”</a:t>
            </a:r>
            <a:endParaRPr b="0" lang="en-US" sz="30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1024560" indent="-5090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5894"/>
                </a:solidFill>
                <a:latin typeface="Helvetica Neue Light"/>
              </a:rPr>
              <a:t>“</a:t>
            </a:r>
            <a:r>
              <a:rPr b="0" i="1" lang="en-US" sz="3000" spc="-1" strike="noStrike">
                <a:solidFill>
                  <a:srgbClr val="005894"/>
                </a:solidFill>
                <a:latin typeface="Helvetica Neue Light"/>
              </a:rPr>
              <a:t>All assignments are valid as long as the original criteria on which the assignment was based are still valid (…) If an assignment is made for a specific purpose and that purpose no longer exists, the assignment is no longer valid.”</a:t>
            </a:r>
            <a:endParaRPr b="0" lang="en-US" sz="30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Helvetica Neue Light"/>
                <a:hlinkClick r:id="rId1"/>
              </a:rPr>
              <a:t>http://www.ripe.net/ripe/docs/ripe-592</a:t>
            </a:r>
            <a:endParaRPr b="0" lang="en-US" sz="30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1024560" indent="-5090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FC36-19C7-4F8B-991E-6B9DC3A67E9D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4"/>
                </a:solidFill>
                <a:latin typeface="Helvetica Neue Light"/>
              </a:rPr>
              <a:t>Transfer of PI Addresses</a:t>
            </a:r>
            <a:endParaRPr b="0" lang="en-US" sz="48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PI addresses can only be transferred through acquisition of an organisation or network or servic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here is a concern that this barrier may stop organisations from maintaining a current and accurate RIPE Registry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2DB8-5FDB-4822-AA55-3A22D6C39C4C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"/>
          <p:cNvSpPr/>
          <p:nvPr/>
        </p:nvSpPr>
        <p:spPr>
          <a:xfrm>
            <a:off x="812880" y="4140360"/>
            <a:ext cx="57909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ctr">
            <a:noAutofit/>
          </a:bodyPr>
          <a:p>
            <a:pPr marL="6984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5895"/>
                </a:solidFill>
                <a:latin typeface="Helvetica Neue Light"/>
                <a:ea typeface="Helvetica Neue Light"/>
              </a:rPr>
              <a:t>Questions?</a:t>
            </a:r>
            <a:endParaRPr b="0" lang="en-US" sz="72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553A-2940-44FD-855F-25BBF7C13175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1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4"/>
                </a:solidFill>
                <a:latin typeface="Helvetica Neue Light"/>
              </a:rPr>
              <a:t>The Goal of This Update</a:t>
            </a:r>
            <a:endParaRPr b="0" lang="en-US" sz="48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o report back to the RIPE community: 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The feedback we receive from LIRs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Highlighting potential problem areas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Asking for guidance on these topic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Providing input to the community for policy discussion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4"/>
                </a:solidFill>
                <a:latin typeface="Helvetica Neue Light"/>
              </a:rPr>
              <a:t>Topics</a:t>
            </a:r>
            <a:endParaRPr b="0" lang="en-US" sz="48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he outcome of past topics: 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Re-assignment of referenced AS numbers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Transfer policy experience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Changing status from PI to PA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Current topic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Unadvertised AS Numbers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Transfer of PI addresses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46A3-23B0-45FE-A502-B5574C8D061D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4084200"/>
            <a:ext cx="1176048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5894"/>
                </a:solidFill>
                <a:latin typeface="Helvetica Neue Light"/>
              </a:rPr>
              <a:t>Past Topics - Outcome</a:t>
            </a:r>
            <a:endParaRPr b="0" lang="en-US" sz="54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FC2F-3C00-4972-A2B4-03F313F677EB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4"/>
                </a:solidFill>
                <a:latin typeface="Helvetica Neue Light"/>
              </a:rPr>
              <a:t>Re-assignment of Referenced AS Numbers</a:t>
            </a:r>
            <a:endParaRPr b="0" lang="en-US" sz="48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he RIPE NCC has ± 1,900 referenced 16-bit AS Number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Accumulated over the years, number increased during 2007-01 phase 3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Because they are referenced, these AS numbers are currently not being reassigned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At RIPE 66 and on APWG mailing list, you gave us a mandate to clean these reference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Helvetica Neue Light"/>
                <a:hlinkClick r:id="rId1"/>
              </a:rPr>
              <a:t>https://labs.ripe.net/Members/denis/making-more-16-bit-as-numbers-available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F175-1EA5-453C-B4CC-A692E31C26B0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4"/>
                </a:solidFill>
                <a:latin typeface="Helvetica Neue Light"/>
              </a:rPr>
              <a:t>Transfers of Assigned Address Space</a:t>
            </a:r>
            <a:endParaRPr b="0" lang="en-US" sz="48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Address space that is in use cannot be transferred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his causes problems for organisations that: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1035000" indent="-5144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Received a PA assignment from an LIR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1035000" indent="-5144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Use the address space in their network and for their customers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1035000" indent="-5144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Become an LIR themselves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1035000" indent="-51444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Want to transfer this address space to their own LIR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he result: policy proposal 2013-05, “No Restrictions on End User Assignments in Intra-RIR Transfers”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C34F-9274-4A29-A6EC-6E8B5972B459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4"/>
                </a:solidFill>
                <a:latin typeface="Helvetica Neue Light"/>
              </a:rPr>
              <a:t>Changing Status From PI to PA</a:t>
            </a:r>
            <a:endParaRPr b="0" lang="en-US" sz="48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RS receives an increasing number of requests to turn PI assignments into PA allocations: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Organisations that received PI addresses and later became LIRs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LIRs that have taken over End User organisations with PI addresses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Reasons for requests: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Network restructuring due to IPv4 scarcity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894"/>
                </a:solidFill>
                <a:latin typeface="Helvetica Neue Light"/>
              </a:rPr>
              <a:t>Need for increased flexibility of address space use (customer assignments, transfers etc.)</a:t>
            </a:r>
            <a:endParaRPr b="0" lang="en-US" sz="3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1436-7F7F-4D0B-B75B-BDFC75D5DD8D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4"/>
                </a:solidFill>
                <a:latin typeface="Helvetica Neue Light"/>
              </a:rPr>
              <a:t>Changing Status From PI to PA</a:t>
            </a:r>
            <a:endParaRPr b="0" lang="en-US" sz="48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365400" indent="-3654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Initial solutions proposed: 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993600" indent="-4935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894"/>
                </a:solidFill>
                <a:latin typeface="Helvetica Neue Light"/>
              </a:rPr>
              <a:t>Allow LIRs to change the status of their PI assignments into PA allocations (if equal or larger than the minimum allocation size)</a:t>
            </a:r>
            <a:endParaRPr b="0" lang="en-US" sz="30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993600" indent="-4935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894"/>
                </a:solidFill>
                <a:latin typeface="Helvetica Neue Light"/>
              </a:rPr>
              <a:t>Do not allow LIRs to change the status of their PI assignments into PA allocations</a:t>
            </a:r>
            <a:endParaRPr b="0" lang="en-US" sz="3000" spc="-1" strike="noStrike">
              <a:solidFill>
                <a:srgbClr val="005894"/>
              </a:solidFill>
              <a:latin typeface="Helvetica Neue Light"/>
            </a:endParaRPr>
          </a:p>
          <a:p>
            <a:pPr marL="365400" indent="-3654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65400" indent="-3654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APWG mailing list consensus seems to be in favour of: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993600" indent="-4935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894"/>
                </a:solidFill>
                <a:latin typeface="Helvetica Neue Light"/>
              </a:rPr>
              <a:t>Allowing LIRs to change the status of their PI assignments into PA allocations</a:t>
            </a:r>
            <a:endParaRPr b="0" lang="en-US" sz="30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993600" indent="-4935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894"/>
                </a:solidFill>
                <a:latin typeface="Helvetica Neue Light"/>
              </a:rPr>
              <a:t>Ignoring the minimum allocation size</a:t>
            </a:r>
            <a:endParaRPr b="0" lang="en-US" sz="3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E0A4-72D2-44F8-8DBE-F346784C66AC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1240" y="4084200"/>
            <a:ext cx="1176048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5894"/>
                </a:solidFill>
                <a:latin typeface="Helvetica Neue Light"/>
              </a:rPr>
              <a:t>New Topics</a:t>
            </a:r>
            <a:endParaRPr b="0" lang="en-US" sz="54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EF24-1A3B-4B9B-9968-EE1B09F6B34D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ndrea Cima</cp:lastModifiedBy>
  <dcterms:modified xsi:type="dcterms:W3CDTF">2013-10-15T21:04:29Z</dcterms:modified>
  <cp:revision>64</cp:revision>
  <dc:subject/>
  <dc:title>Slide 1</dc:title>
</cp:coreProperties>
</file>